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69202-2D35-4600-9F8E-059CF7067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59D5-1E3A-4FBF-847A-B552113C1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B9C95B2-3EC9-4987-8249-B5DE83497F7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42F8481-4EC0-49E6-A465-72765B7F683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E7309F2-F1AD-489C-A94A-AC2083798A9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A131BE5-BC30-4DA4-9459-5A96377E963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0A30C4E-5290-4562-A9A0-3C3A3D013F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6F38814-F4CE-4E6D-869D-A4ACB0E9D7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1BD5EBF-CD6C-4128-987D-228E02523C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774C163-A63A-49D2-B1F8-6DAF80C2E22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6BBB166-BF98-498E-9F07-36E9BEDC54B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59029B3-7C2C-428D-AF6F-BD680EE879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A6039-69CA-4565-8C98-F605C4C83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DB3368-F0AC-4893-A09B-64D7F08CBE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5916967-9DA8-4815-82F9-954D4526BE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B222FB4-B550-42FA-9C1B-7076BA6589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D9C28C7-B7ED-43D5-B97F-6AF5B724A0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263A832-5744-4926-9438-CDBBE9410D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357731-A90D-47B7-9E56-247DC1F27A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7257B7C-D786-4547-8361-1B4EED760B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E3EF8BE-6E6A-4B7F-BC86-FBB7E5F39E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7504DB2-8E1E-4B41-9E35-770B015B4E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980C271-D6DA-4079-B837-A8D87025EF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09475-D4B2-4095-9750-9F72486A4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A96DFC1-0710-46F8-8163-6BCD0F83F0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62976B-CA98-4A23-9BE4-ED9E9687A5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BA9439-49AA-49D1-9B62-C1773DBB3C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AC0E1B-6458-4D42-9EFD-F9A4087754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CB4732-2939-43BA-9106-E8981BF44E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24C834-693B-4F60-8789-E047355A8F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2E301C-910F-4A37-9A0D-E4045013A6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051B29-2CA5-4AA3-BD14-377662DFCD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B98086-36DA-45F4-8E1E-5DDCFD36F7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AD1DAC-0E34-496E-9F19-06BAEAA5B5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A9FE8-7269-4DAB-8EC9-B81B98A42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AAD021-3AF4-4ADB-9289-EE7746B31E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997388-A229-4A19-9F76-C9FA11087E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9B428E-8F7B-4F7B-A391-96AEF4C4F1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0C1D7A1-A98C-467C-982C-8D41C24D5E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A9DA91A-2D09-434C-B2CC-FEB8BBCA0F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4F91109-9240-44FE-8C20-A1D041E2D3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555A13F-E0CE-454F-8DEB-21A8CC998E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B58D464-E595-47A3-A385-BD9B6CD7DC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A69C3DA-0F11-41BD-A56B-080A79BEB7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C168E27-93F5-495A-8A63-625C680C38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8E597-AC8E-472A-8B0E-1EE8AC921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718B3EB-4221-4555-A942-8FD4E7669A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1EF1E1D-4796-4CD8-8C9F-D5ECF6F828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5D21483-8329-46C0-8BE7-D62DBB8AFC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9D88B77-9AE7-4258-9570-028072307F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96C1874-56E5-4181-AB9D-479DE8FB0A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D324A-E6F3-46AA-A9CE-7CF352CC4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4A5A2-B35C-43FD-B0A3-E7CD97705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9B61A-4684-4E03-A655-A7B8FA340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CA413-918C-427A-AA50-40DE70C49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B1D6A-14FA-4A11-A497-C3C6DE293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DDBEE-26FB-4D48-A4A9-E4F2F8EF0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A4EC5-3498-42AC-9DAE-6C5A5A4E3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36209-0890-4849-8735-6F9B57E3F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039A1-6537-4B5C-A627-80D2CB7CB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1061D-331E-4F6D-9E3F-E6A196F8F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04559-7211-4190-8F3E-82501C575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8B2F75-8300-4BC6-8CD5-8658148241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224EE3-4D04-4214-8828-41482597E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94584-6AA6-4E77-BE49-07B783E05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9DA68-C54B-462D-85F9-23CE9C48C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5DD82-105E-4D6E-874C-D5C3E9EEE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9F48C-BFDA-459E-8FD5-0A76E1F72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56B07-09D9-4BD0-A8B4-1D853B85A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A50F4-4F87-43FA-8CBD-029FB0CC8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BFA6C-2478-43BA-92AA-3EB64730F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F8058-DBD8-4F42-B3EF-2F84C5251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47F7E-9DF2-420C-90A3-56D7D07D5A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43BDBA-0D70-4BC9-8608-AE5E92DF00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28DF1F-A920-400B-816F-2BF220841C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D2F47D7-CEFC-4195-8163-8EBCC00E86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E93ECFA-090A-41D6-9361-28EB92E50CD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F9B3C48-BB7D-49D7-84D1-B3B936F46E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0259C-15EE-4DDA-96FA-FE9A106B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A2AF453-BFA6-48C6-B0A4-5811CD4D34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92E9742-1B71-4D81-B823-4742A93116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B8F7A50-52F5-41AA-AB23-4321EBE71F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997DA5F-37CB-4E95-A889-1D7D99EB00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0DCA807-2375-4D05-A155-5DB4006B27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F3CE33-3933-43D2-8C34-97E790606F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1B84AF7-6DFD-47F0-A043-C038CB754E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FD41A82-2FE5-45EF-8FCD-3F1714421A6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98DF1FB-32C1-4F6C-93B4-E4C866CCCA6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0B7099-7941-4B10-AFFA-62EC08C1A0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E943C-F4A8-41BC-9C34-F8C76D0B4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C45C5-CC7B-4F18-885A-42E59E265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5FAE1B-D7A6-4F32-BF3E-2EBE3052A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1BDF55-87ED-49F6-8185-CBF3F42EEA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00014-DD9E-4149-BDB0-4AF3C54D8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188D73-C47A-4E6F-86FD-2767D06ABD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6CD4C-A2BA-4E37-832A-7261F0A96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CC012-6A4C-49E1-8056-692CE1548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5CD53-BCD4-457D-A209-05839EE48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9FE553-61F9-4E19-9CDE-F0EAEDB9B7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183999-083B-462B-B6EA-C34F1CEE02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25FE-CD16-4E2D-9299-352BA4A1A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9331CC-4B28-4EE2-8D29-8E99552CE0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0EC8E3-97C8-42D0-A742-4D11285135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DB7894-923D-4F6D-BFEF-BFD023198E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E859E4-F523-42D2-B4DB-0FFE6CFA76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3771BE-2CB6-4457-AE0E-61B3F23B19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B4B15C-B914-4FD6-932F-3F7D0D58C0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3F9ECF-FF42-4E88-8E59-E01762E9F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3AD4D9-832A-49FA-BACF-072B4ED68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C29ED-4904-4C00-A861-79A5B03C5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3294E-E1A4-404A-B366-2E1ECDA39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A224-C093-496B-8BAC-639F95DD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F927B9-D779-4563-9736-F2F4F052DB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818046-6B35-4647-BAA5-B0FCCD6DB9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5C70F1-EBD8-4818-95FC-C9B8C36D7C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7BF214-2813-44AC-9CC9-C5F5E8CF59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CE0F9-2DAE-4B31-90A1-B724C92A13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6370A3-C384-44C1-9B3A-D214BD614B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364DA1-50F4-44C4-AECD-7E5F17BB3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1D5864-9B53-4ED1-89D6-1CCAB5171D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9BAF85-AF7B-4193-8AED-C58E2BB0E2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84955-17B9-463D-A5A4-AC2943254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A4046-F08B-4E45-8017-D83417610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CC36CA-1D5C-4719-9034-37D260C33B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77D30-8EBA-4726-8D96-8F5560D72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6814BC-E51C-414A-BE49-69335BBC3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EDC406-EB3F-4724-8189-EA9BA31615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474140-42C8-48BD-AD81-A6311C99FF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E1BB52-9587-453A-B9EB-AD5BC3D965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C6947-4A2D-4F19-9B47-72025E09E2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2FE7DB-0D14-47F3-A061-83358591D4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436D1C-0E39-4846-B18C-47412C9639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5764B4-74DA-4084-85BA-EAF6EE9E6D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EA84F-D877-4CB1-B37F-3CF123892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35ED08-300D-4D12-BF5A-1169B42E64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D4F33-49B8-48CF-AF4B-7FA1D7B93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8CEEF-8A91-43B0-857F-2581778547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A8DA4-07A7-40CC-9E5F-4247756491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6233E-9127-4A36-A3E3-7EA5F725FD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F85353-E3DA-4C96-B4FD-C670CAB187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A4A5BB-328B-45AC-81DF-85C634C5BC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C5612F6-73BF-4CFB-BEE7-50C65733375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BF7DD1B-C0F3-4E11-9913-BEC45A6CB42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DBBD3CC-C719-466F-B5B6-D388A4F9F1F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B402-805B-4022-95A8-F60E9A54ED4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2A6E-492D-4306-AC2A-6B8184D7577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EDA7-DF3D-463D-BCA0-DF2018C3221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D79D-EF2D-42AA-9540-9AE1FB01A72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09BE-0449-4FBC-86A9-ABEB31782DE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FDBE-449A-4681-8316-2DBD941E196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2DBF-3EF2-4149-BD83-AF0F4AAD9B7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6FE7-6812-4548-938B-40EAFD72ED4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EF5E-322A-44AB-B9AD-595184A665E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D4CC-FE93-40C0-A3D7-0394E22185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4F83-93FA-448D-9BAF-7CD0FCE6FD5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D08D-56A7-4DF4-9C60-CD1A12F7E90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5"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7"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ytokinesis</a:t>
            </a:r>
            <a:endParaRPr b="0" lang="en-US" sz="3300" spc="-1" strike="noStrike">
              <a:solidFill>
                <a:srgbClr val="7b9899"/>
              </a:solidFill>
              <a:latin typeface="Georgia"/>
            </a:endParaRPr>
          </a:p>
        </p:txBody>
      </p:sp>
      <p:sp>
        <p:nvSpPr>
          <p:cNvPr id="62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4" descr="Image result for onion root tip cytokinesis"/>
          <p:cNvPicPr/>
          <p:nvPr/>
        </p:nvPicPr>
        <p:blipFill>
          <a:blip r:embed="rId1"/>
          <a:srcRect l="12499" t="7775" r="10002" b="24446"/>
          <a:stretch/>
        </p:blipFill>
        <p:spPr>
          <a:xfrm>
            <a:off x="1447920" y="2057400"/>
            <a:ext cx="58086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32"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3"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erphase</a:t>
            </a:r>
            <a:endParaRPr b="0" lang="en-US" sz="3300" spc="-1" strike="noStrike">
              <a:solidFill>
                <a:srgbClr val="7b9899"/>
              </a:solidFill>
              <a:latin typeface="Georgia"/>
            </a:endParaRPr>
          </a:p>
        </p:txBody>
      </p:sp>
      <p:pic>
        <p:nvPicPr>
          <p:cNvPr id="619" name="Picture 2" descr="Image result for onion root tip interphase"/>
          <p:cNvPicPr/>
          <p:nvPr/>
        </p:nvPicPr>
        <p:blipFill>
          <a:blip r:embed="rId1"/>
          <a:srcRect l="23348" t="4441" r="26553" b="39836"/>
          <a:stretch/>
        </p:blipFill>
        <p:spPr>
          <a:xfrm>
            <a:off x="2666880" y="2362320"/>
            <a:ext cx="3840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21"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3"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6-11-30T17:20:54Z</dcterms:modified>
  <cp:revision>7</cp:revision>
  <dc:subject/>
  <dc:title>Onion Root Mitosis</dc:title>
</cp:coreProperties>
</file>