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43253-4FFC-492A-B4E7-4BFC71C21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19405-BC4F-4ED3-AC48-E9128D54F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A28DEE2-4A74-4E70-BC34-BF040CC9BFA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B2BFB11-796B-4408-B822-739FDE7AB51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0EA6C82-B6CA-4520-B34D-25AEDB09982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29FD4FD-D3E3-4473-A26D-108460B5BB7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0D8DC75-4BB9-4674-B34D-4029B7D0AC1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AC569A2-8B4D-45A6-8AB6-B5832BA7B86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06DD500-01DC-4CD4-8586-661F194C34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806C7A4-3545-4913-9349-6A65D5D8701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A524A11-0A4A-4D4C-8166-76E05F236BE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9776280-E166-4466-8665-9DB87F4F95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ECAFA-2289-4653-95B9-C89F84B08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FBDBEAE-C52A-43F2-B09E-AA17C0594C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E7E0C7A-5D41-423D-A14D-0B7AA722C2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71B06F3-267C-4D6B-BEB8-401F6B9517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72468C6-14D1-486D-B732-B2F5CB446D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5461C59-9662-48B4-89CF-A01E8E94B5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F75CB0D-C66F-46BB-A6CD-2E47A493C4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776FE21-D6AD-494E-B948-C657F1DCAD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6C1158D-939E-4549-948A-89E238FDAE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52C2CFD-E0D8-40DE-AB48-42D21407F5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713B237-DD10-4AC6-81B6-2754C26FFA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7E0B9-0CF9-4181-AA75-703DF63A7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3FC9F44-0CD5-4538-AB7F-5FBFF9A284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C606BC3-026C-4601-81E6-92A2C5965B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0598CA-E094-40EB-9938-6501189CBB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E66547-BFCD-472A-AD73-B7E33D5AB9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2DDA07-EF10-44EC-8BC5-5206B724E1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28A0E0-59D9-4339-886C-95B8AF0D6E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7AF22C-AA24-40BE-9389-E18B66ED56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F5D4C4-8C1E-4619-A588-B1952143CE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398ECE-2BF8-4566-BACD-215D2951BE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D07C1A-CCCD-4AAD-A369-541AD2EA0E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93037-EFF2-45CB-818B-248351F60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B0899D-74EF-49C9-84DC-5076790B8B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F9CFA36-AB76-4D1F-B8F8-0B1B1C4CC0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DDAABB-A30C-47B2-BC6E-98B85BD606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D047DCA-4338-4715-9046-AE8D5BF57B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873E956-5A03-492D-B849-3989FAA82D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C303A0D-EFD1-4A9A-A08F-3BAE235377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1AF3AED-6BDC-457B-B38B-1B3B516FC5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1D2E4AA-8A86-4C84-ABA0-003F3EFB60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87C4AF5-CC37-42EA-BFB1-93A282D487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14C2163-DE64-46E3-B760-8EEAC34AB3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0883B-E092-4BE6-863A-13F072A24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8AE886D-AE6E-4DAB-B695-164489D851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12D5D47-0D0B-4308-805B-974180F17F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5381561-8450-41A9-B45F-B87E7B574B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60DF738-B5B1-4F58-B077-949DE3FA80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377C921-4BF7-4598-B57A-64730E430D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3F56C-25E3-46F5-A4BB-8E85CD7C9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73311-B2BA-4B8D-BD8D-0859AD2F8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CE40F-2B9A-4BC5-960A-94DF5D08D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B1B0C-5C88-4522-9BA2-80F6F05E1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AD198-3006-4BFA-BEBB-7985CA464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C2F0D-8379-4648-9046-86854A8A0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3216D-1082-4979-B7C4-84CC26244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85FEC-6756-44B2-8909-32765A49F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96FB7-9D39-491E-AA3E-6BAB5049F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C402E-9D5E-4A9B-B72D-CF36D8CD4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13EF3-CE52-4881-9B1A-A0A217343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333662-C3BB-435F-87BD-00F874A44D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8D29E4-E969-41E4-8416-CDCCAF20B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60D7C1-E79E-490E-915A-90800956E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AE4FF-4798-4B08-864D-DE658C3CCB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D8846-F066-4859-92C0-DD25F0AD86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C0914-7E2B-4E35-8509-9550C42E7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F2D98-AB90-4ABB-8FC6-24761C9477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EDB2C-9174-44C4-ABD9-7B6D20A0F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42AAF-3E51-437D-A828-36EAB22A0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C3CC6-1191-4062-9F4B-568FCB2AE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A977DE-0F62-4E34-8FA8-1372929E7D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AB37CC-CC82-4DFA-ABF3-BAA6CB895C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DA980F-3E73-4622-9EF9-6E704D3EC7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F0887BF-31CE-4AFA-A16D-F85733148C5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DEE8CF2-6EFF-4287-A210-E641E7E4E13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201D1B0-16BA-47F1-8592-06C879F81BA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45D0E-D408-48CB-9BEC-872AE96E5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127E3A9-4DC4-4E8F-9AE3-C6E12CC6193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A3DA251-0858-4DAB-9A5C-8E67ABCBEB4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8B1E132-7687-43FF-A192-BFA44729D9F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5BC2A1A-B955-4D65-B935-1783A552784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217AC2-ACE0-4B0E-8CCB-8041D4C18A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569075B-50DE-4314-9FF1-6A4C9B2EBB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E17035B-9EF1-447E-A716-7386A382C44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71BA82F-2151-4976-94BA-358F89AD7D5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4FBC106-1610-42A1-B068-FAFA4EBB920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7F9983-2A43-4652-BC2D-FAD55426D4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EBE6A-8A46-4E07-A831-CBBACECB1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BBB1DE-3331-4F78-A299-9AED305BEC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0FD6E2-7D64-4B74-B94C-6EEE3163E2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D77D4D-F196-433E-8B69-3B2F45799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62EAA2-69E7-4EFF-9C69-1B46057D61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7154EF-6C47-4DF8-9E6D-D97DE90DCC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96F44-BBF1-48EF-A1A5-CB8A78672B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5F4B53-A0CE-409D-8AC1-335F7263D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CD25E-7572-4171-8B8B-E56824F8EA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57B3A9-C749-4F19-BC6A-7AA2B2EF3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323975-7AFD-416B-B7CE-528F17BC7D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4B42A-30AA-4C5A-A0C8-FA74456B7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27E472-882A-418A-84A1-9ABA16EE1D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7E9693-D5D8-42FA-9F0A-2DC6636DF3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7B3D44-8972-43DC-A57B-A71B7ED3A5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2FD594-3362-405A-9AFE-580E9F84F5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002FAA-554F-4F7F-9920-498AEC2B88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7CA34C-A086-45F9-87CD-1F46140ABE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AF5172-21E3-4260-B33F-03D6DE644D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3D1D71-D13B-4708-AC09-37849F293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B39D4-51A3-4F67-8F5A-1023FFD61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89F104-A819-4B1E-B3FA-FEF2EB5B3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B7335-02DE-4881-9BB8-8E65F0D38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41149D-A158-4388-B7EE-101FB0F3C5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7595EE-F973-4EBA-8340-3503ECF80D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08BBAB-7389-4714-B3C3-CE05180978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A34971-D89B-4B2F-8565-32E84535CF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1745AC-90AC-47D3-91F8-541D810E06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DEC73D-EA17-45A1-9C48-B40F35CD03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26A2A2-4C17-47E3-8B8C-F8AF55DCE4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044866-9FAF-452D-97E9-15197F5642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FC9708-E4D1-4491-8FE5-686995534E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A14BC-306D-45EB-948D-E0B72DC1C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46E71-7AB1-476A-BA52-68B483152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43127-64B5-493A-BD47-8B21065B77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A817F7-CC0D-4502-848F-3C46F22F9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74D14-8628-4436-8E83-19FA88510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4758D4-AD11-44A7-81DA-BAB6014F15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AB25D6-4213-459C-BBEC-EAD9048B3A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872E52-55D9-4A8F-B181-9C332A5391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10181C-5633-4ECE-A233-5F836A0388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BD8921-F176-4FD4-A34E-C6CB7152E2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38F059-2CA6-4AD5-99BE-E49F63251B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32FFCD-4FC3-4B12-A166-98F37AC686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1F547-1D8D-4853-9FD1-C200F1E69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12422-9A25-4FD9-8B14-5449C8965F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24229E-2100-47CE-9F76-5F41E49C36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C8D8A4-7DBE-429A-A049-52E394679B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1AF760-595D-4442-A94C-0868975EC1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EDA92D-26C7-48E4-BE94-FDFC1ABFC8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6DFC55-66FD-48BA-A7FA-9B626DF6A2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D2EE01-1ECA-4384-8B66-1F459C2BDE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E081FA8-CFA1-4570-BF8E-A5854474C78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28A04FB-F96D-48FF-A9ED-2134237687C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6F7F397-5BA2-4354-930F-88F9B3EEFD7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DB39-6C70-4DB7-8FE0-38E372E7308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72E8-C67E-471D-8BF1-EFE20AE576B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ECA0-4AB7-43E5-9114-97E5CF40BEF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C94B-5950-47B8-823D-3CF98088720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E56A-F03B-41AB-B090-AB34931D5FB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B9F0-ADB5-43DD-8E47-EE177775EFB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120C-B238-4F7D-8B5F-16BA6BBED1A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85C3-1AE3-40CA-83DA-CE9061AF8D7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61A8-B855-4E9F-97DD-BE98154000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7DA1-5F81-40DB-A19A-C346D4B265F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2928-1C20-4289-A663-F3465A3D4E8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8603-F33A-4EB8-9BE2-E8EFEF3C5B8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icroscopy-uk.org.uk/micropolitan/botany/frame4b.html"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Onion Root Mit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phase</a:t>
            </a:r>
            <a:endParaRPr b="0" lang="en-US" sz="3300" spc="-1" strike="noStrike">
              <a:solidFill>
                <a:srgbClr val="7b9899"/>
              </a:solidFill>
              <a:latin typeface="Georgia"/>
            </a:endParaRPr>
          </a:p>
        </p:txBody>
      </p:sp>
      <p:pic>
        <p:nvPicPr>
          <p:cNvPr id="625" name="Picture 5" descr="an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lophase</a:t>
            </a:r>
            <a:endParaRPr b="0" lang="en-US" sz="3300" spc="-1" strike="noStrike">
              <a:solidFill>
                <a:srgbClr val="7b9899"/>
              </a:solidFill>
              <a:latin typeface="Georgia"/>
            </a:endParaRPr>
          </a:p>
        </p:txBody>
      </p:sp>
      <p:pic>
        <p:nvPicPr>
          <p:cNvPr id="627" name="Picture 5" descr="telephase"/>
          <p:cNvPicPr/>
          <p:nvPr/>
        </p:nvPicPr>
        <p:blipFill>
          <a:blip r:embed="rId1"/>
          <a:stretch/>
        </p:blipFill>
        <p:spPr>
          <a:xfrm>
            <a:off x="2895480" y="1295280"/>
            <a:ext cx="3373560" cy="518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ytokinesis</a:t>
            </a:r>
            <a:endParaRPr b="0" lang="en-US" sz="3300" spc="-1" strike="noStrike">
              <a:solidFill>
                <a:srgbClr val="7b9899"/>
              </a:solidFill>
              <a:latin typeface="Georgia"/>
            </a:endParaRPr>
          </a:p>
        </p:txBody>
      </p:sp>
      <p:sp>
        <p:nvSpPr>
          <p:cNvPr id="62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4" descr="Image result for onion root tip cytokinesis"/>
          <p:cNvPicPr/>
          <p:nvPr/>
        </p:nvPicPr>
        <p:blipFill>
          <a:blip r:embed="rId1"/>
          <a:srcRect l="12499" t="7775" r="10002" b="24446"/>
          <a:stretch/>
        </p:blipFill>
        <p:spPr>
          <a:xfrm>
            <a:off x="1447920" y="2057400"/>
            <a:ext cx="58086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4"/>
          <p:cNvSpPr/>
          <p:nvPr/>
        </p:nvSpPr>
        <p:spPr>
          <a:xfrm>
            <a:off x="533520" y="364680"/>
            <a:ext cx="4419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Table 1 – Totals for Cell Cycle</a:t>
            </a:r>
            <a:endParaRPr b="0" lang="en-US" sz="1800" spc="-1" strike="noStrike">
              <a:solidFill>
                <a:srgbClr val="000000"/>
              </a:solidFill>
              <a:latin typeface="Arial"/>
            </a:endParaRPr>
          </a:p>
        </p:txBody>
      </p:sp>
      <p:graphicFrame>
        <p:nvGraphicFramePr>
          <p:cNvPr id="632" name=""/>
          <p:cNvGraphicFramePr/>
          <p:nvPr/>
        </p:nvGraphicFramePr>
        <p:xfrm>
          <a:off x="304920" y="1295280"/>
          <a:ext cx="8610480" cy="5334120"/>
        </p:xfrm>
        <a:graphic>
          <a:graphicData uri="http://schemas.openxmlformats.org/drawingml/2006/table">
            <a:tbl>
              <a:tblPr/>
              <a:tblGrid>
                <a:gridCol w="1230120"/>
                <a:gridCol w="1230480"/>
                <a:gridCol w="1228680"/>
                <a:gridCol w="1228680"/>
                <a:gridCol w="1230480"/>
                <a:gridCol w="1230120"/>
                <a:gridCol w="1231920"/>
              </a:tblGrid>
              <a:tr h="5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Inter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Pr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Met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An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el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o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Percen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3" name="Rectangle 186"/>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plants, the roots grow as they search for water and nutrients. These regions of growth are good for studying the cell cycle because at any given time, you can find cells that are undergoing mitosis. (Interphase is NOT considered a phase of mitosis, however it is part of the cell cyc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prepared microscope slides of thin slices of onion root tips. These tips are the part of the root that is constantly growing in order to find nutrients and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ypothesi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25 onion root cells. Your hypothesis should be a statement as to what </a:t>
            </a:r>
            <a:r>
              <a:rPr b="1" lang="en-US" sz="2700" spc="-1" strike="noStrike">
                <a:solidFill>
                  <a:srgbClr val="000000"/>
                </a:solidFill>
                <a:latin typeface="Georgia"/>
              </a:rPr>
              <a:t>percentage </a:t>
            </a:r>
            <a:r>
              <a:rPr b="0" lang="en-US" sz="2700" spc="-1" strike="noStrike">
                <a:solidFill>
                  <a:srgbClr val="000000"/>
                </a:solidFill>
                <a:latin typeface="Georgia"/>
              </a:rPr>
              <a:t>of these constantly splitting cells will be in interphase, prophase, metaphase, anaphase and telopha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Material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rosco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pared slides of onion root tip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ta shee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ed Penci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ere To Look</a:t>
            </a:r>
            <a:endParaRPr b="0" lang="en-US" sz="3300" spc="-1" strike="noStrike">
              <a:solidFill>
                <a:srgbClr val="7b9899"/>
              </a:solidFill>
              <a:latin typeface="Georgia"/>
            </a:endParaRPr>
          </a:p>
        </p:txBody>
      </p:sp>
      <p:pic>
        <p:nvPicPr>
          <p:cNvPr id="617" name="Picture 5" descr="onion_root_mitosis">
            <a:hlinkClick r:id="rId1"/>
          </p:cNvPr>
          <p:cNvPicPr/>
          <p:nvPr/>
        </p:nvPicPr>
        <p:blipFill>
          <a:blip r:embed="rId2"/>
          <a:stretch/>
        </p:blipFill>
        <p:spPr>
          <a:xfrm>
            <a:off x="2438280" y="1295280"/>
            <a:ext cx="4364280" cy="51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erphase</a:t>
            </a:r>
            <a:endParaRPr b="0" lang="en-US" sz="3300" spc="-1" strike="noStrike">
              <a:solidFill>
                <a:srgbClr val="7b9899"/>
              </a:solidFill>
              <a:latin typeface="Georgia"/>
            </a:endParaRPr>
          </a:p>
        </p:txBody>
      </p:sp>
      <p:pic>
        <p:nvPicPr>
          <p:cNvPr id="619" name="Picture 2" descr="Image result for onion root tip interphase"/>
          <p:cNvPicPr/>
          <p:nvPr/>
        </p:nvPicPr>
        <p:blipFill>
          <a:blip r:embed="rId1"/>
          <a:srcRect l="23348" t="4441" r="26553" b="39836"/>
          <a:stretch/>
        </p:blipFill>
        <p:spPr>
          <a:xfrm>
            <a:off x="2666880" y="2362320"/>
            <a:ext cx="38401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phase</a:t>
            </a:r>
            <a:endParaRPr b="0" lang="en-US" sz="3300" spc="-1" strike="noStrike">
              <a:solidFill>
                <a:srgbClr val="7b9899"/>
              </a:solidFill>
              <a:latin typeface="Georgia"/>
            </a:endParaRPr>
          </a:p>
        </p:txBody>
      </p:sp>
      <p:pic>
        <p:nvPicPr>
          <p:cNvPr id="621" name="Picture 5" descr="prophase"/>
          <p:cNvPicPr/>
          <p:nvPr/>
        </p:nvPicPr>
        <p:blipFill>
          <a:blip r:embed="rId1"/>
          <a:stretch/>
        </p:blipFill>
        <p:spPr>
          <a:xfrm>
            <a:off x="2743200" y="1600200"/>
            <a:ext cx="322416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aphase</a:t>
            </a:r>
            <a:endParaRPr b="0" lang="en-US" sz="3300" spc="-1" strike="noStrike">
              <a:solidFill>
                <a:srgbClr val="7b9899"/>
              </a:solidFill>
              <a:latin typeface="Georgia"/>
            </a:endParaRPr>
          </a:p>
        </p:txBody>
      </p:sp>
      <p:pic>
        <p:nvPicPr>
          <p:cNvPr id="623" name="Picture 5" descr="met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2:45:27Z</dcterms:created>
  <dc:creator>Mike Owdij</dc:creator>
  <dc:description/>
  <dc:language>en-US</dc:language>
  <cp:lastModifiedBy>Owdij, Michael</cp:lastModifiedBy>
  <dcterms:modified xsi:type="dcterms:W3CDTF">2016-11-30T17:20:54Z</dcterms:modified>
  <cp:revision>7</cp:revision>
  <dc:subject/>
  <dc:title>Onion Root Mitosis</dc:title>
</cp:coreProperties>
</file>