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3332F-53B5-4497-9784-4E45ED32B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496A4-B872-48C1-8B6C-11BB5987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06652C8-40B7-4DC6-BF88-02BD76193D6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6E1C94-2614-4BBE-9610-529C90C974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A814C33-4673-4964-B746-ADFBC4EF8BE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D7D66A-9D97-4D39-882A-DC80F2CE86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6E73F2-CA9E-4245-A033-36A872B977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6DCE127-8329-427A-AA2E-FA09171F0D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C3D2D8-8063-4346-B1B4-F43071D2F4C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8CB1F96-58F1-47C5-8A79-E3388A6A8EA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C9CB4EC-D551-40AD-B70F-AE9D725E471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3E97CF5-9684-4A1B-B68E-CFCFA81457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5C42F-2E35-46E7-8CB6-A86D3227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60B2C3-9B20-435D-85E7-52811778E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2A62162-187D-4554-B742-129B0B6C51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B55E6BE-7910-49A0-8BB4-49D9809C2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B29AAD0-F8AA-4CF6-A93D-D0B12EAC3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F38F056-4031-456F-A63C-24704A574E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174334-07F1-4574-97FC-17DD45C16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02B3516-46F2-4437-89CF-51DDA2DF7F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66DAEE-BE71-4424-B83D-EE3A2A8524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7B75DEF-9980-48A4-AA6E-6B95219A2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9FAB024-6CBA-4EC6-B959-1834F2C4D6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71DAD-8177-4DDC-85A8-4FD27201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B7EE086-516C-4E8E-A24B-DCD4713475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E7605B-CA9C-4451-A4A4-F246AB826A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46201E-FB37-4CFC-A3F8-B8A7CB8400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48B291-2D08-4384-9933-928A4E6AFB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2BC8EE-EA60-4702-99C3-E082A0EFF6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DD558B-8354-4ECC-9375-46B5963D1D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16B29D-8A63-45C9-A2C0-D0B819B121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434F46-D8EC-4D22-88C7-57185AB8E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759476-0922-42ED-B679-510991A692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FAC7FF-C4C0-44F2-B3B8-4C8AA1BC6D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72BE0-7789-4708-9A4A-5EC381CFD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7BEF55-C5EB-421E-8602-5C6E97B987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346E25-BD54-4979-A03F-FCA55F5993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BD2657-0B88-43B2-8422-DB0BC9A7A8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31D1E6E-5121-4988-8405-104B064662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2BE5BB5-1139-4906-B91A-9EEEB7EB8E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06FC109-3E39-4497-A819-FCB2FCCB21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9FBDA6-0FA0-4097-BC23-F4CC7CBD10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133E1C5-6E5F-4A83-977C-A06EDFA296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C1DFB5B-2DD3-4328-A156-118BAE06B6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A0A2038-3556-4A16-93F4-9072FAD154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EAA09-25E3-4243-B262-F68543514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FB9B91-1404-46EF-8C9E-C27F47D9F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A5A2B2-FCEF-4FB7-B406-D905BC4A7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5F312E0-E49F-4EC8-A203-AEF4B57C84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F3B3A89-8086-4037-8D2C-49B9C888FA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1B2C2F3-5A30-4F60-8AAA-A52586B5EB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5B8FE-8335-44CD-9183-FEDDF65B0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A2B75-522E-4E3E-BC40-05E5F3821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C13AB-A869-4142-BC55-394B07A07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1EA07-4776-4394-89D5-D41C363CE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0C6E6-B6F0-4A0F-90AD-696707C3D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D97E-FDEB-4D62-9412-AB737CDD3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C7523-1EF6-4A13-9C1E-27010DB29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577B8-E0DD-4D16-AEDA-3B8D3913B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551D-EC28-4927-8343-85E34649A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8EF4D-69B6-4663-94CB-59D0B071F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F4B4E-48BF-41AE-A16B-85804C4C9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17FA4-BA73-4683-AEE3-F91F94EB4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7C83F-C21B-40C6-858D-363E8EE65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B5996-6F53-4D3D-9FBA-8A183B8BC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1DD51-6F60-4F7D-862A-737F8FC96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7FEF3-C570-4441-805E-4F2EC28D7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8179A-C2FE-478D-B9BC-8C3121E1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08DFA-76B0-4568-BD3F-0F7EB5E64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0E7D4-4467-4DA5-8EA2-99138B38D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D3B26-FB4A-45B2-A647-B67305AD5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3DEE7-65A5-4930-9288-90071DA7E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A48D4-DB7B-4A50-BFCE-4B9D18709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922ED8-8EC4-4341-A0CF-F87C863C8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A49A1E-C9C0-40A9-A6B8-75E9532CC4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5A696C9-EB24-42EC-AA3F-F22B64B564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EBAABD-E9C4-4D92-9AC0-935A1C53F93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0F64C44-09A0-4393-A93C-DAE0CCE87B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6F77-7241-486D-981A-3D5313382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4A167CB-661B-4A4E-91CC-C9191B8C56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A03E2FE-9F71-45F6-98D9-08FBFE9179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A22CE0-E30E-4618-8A8E-7F413B9504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7BAB823-0D31-4889-A8E5-529A696303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D641027-522E-4D9B-855F-4D14368773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D46014-C391-4BBC-9587-3E7396543C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C9A171D-9253-464F-AA36-D6EA4F7FE0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5497569-6C9C-41A9-9644-85FAEE10D6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BE9FD09-FEF1-4B37-947E-C7F30DFCBA9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8D74D-F961-496F-9D39-2B58121D0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CCEF-DD5B-4EF5-8149-03477961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94D54-E21B-474C-B4FF-AE8B23FAD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AFE36-C511-4483-B140-35C792B6A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E8B4D-3C69-4EFF-86C9-85391D67D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EC441-5CEF-46F4-BA37-817DC6943A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D7D78-32E9-4C0D-B7B7-3D30D8398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EFF74-7DD5-41F4-8B35-260AFED65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ABB83-1842-4F3C-9FF2-DED187DC3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D5EF8-D6B4-4D98-B107-E8868AFD5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5FFC8-9B4B-4A2A-9C55-0BE2CCB86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B58A18-D818-40FA-A442-5D318D5DED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587F8-04B1-4AC6-B544-AC00E42F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E2A577-4E4A-4B7E-BF78-76BB2353B1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A19F4-C14A-4393-B111-56DE04222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6361C-AF19-4B62-BDDC-E3318D5188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5EA7B-08A5-43FD-BBAD-8E712A149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038DE-F08E-4612-9D6A-E51E0D4DD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30A3B-927A-47F3-B71F-E1046D8EC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BE886-CDCC-4BB5-B22B-355F0743F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865F7-4869-4C2D-AE9A-032D22E5A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A939B-1A61-4ABD-90C7-BD4CAB196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43F58-76D1-4C6C-82E2-AEA3F8C9E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EDC6C-F41F-4646-B0C8-5B964928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C4C516-02CF-4785-890E-53D377DEA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D3CFF2-A1AB-49B3-BDD0-DBFCAC965D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33632-2970-4EDC-9D10-71B4437D12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EA916E-0D63-4792-A7CB-9A6EB1EAC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A8619-0F8D-4BFC-B135-DFAD658114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A1266-EA94-469F-BED2-7CE6895A20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9BDE5-451F-4111-89A6-9D8E75550C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6ED6D-0788-4D1F-883A-38255D148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CC477F-3243-4C59-847A-34C82E37E6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28787-9081-4C24-8302-2670F8850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5964D-56EF-432A-AC8B-445C3702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B3F8F-4B43-4326-9A16-8735C8FB9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AC72B-0973-419B-82F7-3EF9F80AC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B0E519-0944-40BB-9443-261509FAE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C506F-D82E-4781-ABFB-F302F623CF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E6AF0-31F7-4AB3-965A-0E4641E2E8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9E1437-A8A1-4F76-9071-2203B7073A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8A22E-5AA3-4591-824B-90ABAC92C4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E9065-EDC4-46F1-9E97-E53D9DF554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ACE6E4-F184-4938-9393-6CF4CE2EF8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BB919-F544-4784-B681-446691D01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8AD5-4184-41D7-BAD2-AC656074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56C3FE-99CF-44EE-B2B2-9AF1B51FA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26BD6-0F4D-4394-9829-52BDBD9D5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6807C-2936-4E26-9223-9D27F9868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CB237-EA8B-4930-AE57-25A0E69B9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A664D5-2B07-410A-8791-7525D4479C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5A55FB-A382-4547-88A0-95C526C8B8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9C3618-EC82-44D8-946B-8F39C9BBC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9823B74-24B4-4053-9B06-27339EDBB1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3F47E0E-2BB8-4AD2-9A2D-777BF24F17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DCC9CD-917B-494E-8E6D-BE4A6AF949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C047-B946-45AF-8F26-E77545AA3B2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8A9B-6CD7-4AC5-906F-3C1B59B7A4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DD7A-4198-4010-A9F6-AE7F1355D5A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2902-A462-46AC-8DF6-74BBA1B8C6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F2C8-81F8-419C-A877-E77260E97C6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E507-9A04-42A9-A6EC-E3C62CB502A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3B03-D73E-4A73-9D5D-BE0B148138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8F4E-8C1F-4755-820B-9C17032BD84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6C04-9E10-4F7B-9043-B732F77D46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5CD2-6965-46CF-97CE-6DE03A673C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AAA1-08DB-413C-85D7-DF512188226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6D3E-2229-4B19-9B87-5F5C4128431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icroscopy-uk.org.uk/micropolitan/botany/frame4b.html"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Onion Root Mit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phase</a:t>
            </a:r>
            <a:endParaRPr b="0" lang="en-US" sz="3300" spc="-1" strike="noStrike">
              <a:solidFill>
                <a:srgbClr val="7b9899"/>
              </a:solidFill>
              <a:latin typeface="Georgia"/>
            </a:endParaRPr>
          </a:p>
        </p:txBody>
      </p:sp>
      <p:pic>
        <p:nvPicPr>
          <p:cNvPr id="625" name="Picture 5" descr="an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lophase</a:t>
            </a:r>
            <a:endParaRPr b="0" lang="en-US" sz="3300" spc="-1" strike="noStrike">
              <a:solidFill>
                <a:srgbClr val="7b9899"/>
              </a:solidFill>
              <a:latin typeface="Georgia"/>
            </a:endParaRPr>
          </a:p>
        </p:txBody>
      </p:sp>
      <p:pic>
        <p:nvPicPr>
          <p:cNvPr id="627" name="Picture 5" descr="telephase"/>
          <p:cNvPicPr/>
          <p:nvPr/>
        </p:nvPicPr>
        <p:blipFill>
          <a:blip r:embed="rId1"/>
          <a:stretch/>
        </p:blipFill>
        <p:spPr>
          <a:xfrm>
            <a:off x="2895480" y="1295280"/>
            <a:ext cx="337356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ytokinesis</a:t>
            </a:r>
            <a:endParaRPr b="0" lang="en-US" sz="3300" spc="-1" strike="noStrike">
              <a:solidFill>
                <a:srgbClr val="7b9899"/>
              </a:solidFill>
              <a:latin typeface="Georgia"/>
            </a:endParaRPr>
          </a:p>
        </p:txBody>
      </p:sp>
      <p:sp>
        <p:nvSpPr>
          <p:cNvPr id="6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4" descr="Image result for onion root tip cytokinesis"/>
          <p:cNvPicPr/>
          <p:nvPr/>
        </p:nvPicPr>
        <p:blipFill>
          <a:blip r:embed="rId1"/>
          <a:srcRect l="12499" t="7775" r="10002" b="24446"/>
          <a:stretch/>
        </p:blipFill>
        <p:spPr>
          <a:xfrm>
            <a:off x="1447920" y="2057400"/>
            <a:ext cx="58086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533520" y="364680"/>
            <a:ext cx="4419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Table 1 – Totals for Cell Cycle</a:t>
            </a:r>
            <a:endParaRPr b="0" lang="en-US" sz="1800" spc="-1" strike="noStrike">
              <a:solidFill>
                <a:srgbClr val="000000"/>
              </a:solidFill>
              <a:latin typeface="Arial"/>
            </a:endParaRPr>
          </a:p>
        </p:txBody>
      </p:sp>
      <p:graphicFrame>
        <p:nvGraphicFramePr>
          <p:cNvPr id="632" name=""/>
          <p:cNvGraphicFramePr/>
          <p:nvPr/>
        </p:nvGraphicFramePr>
        <p:xfrm>
          <a:off x="304920" y="1295280"/>
          <a:ext cx="8610480" cy="5334120"/>
        </p:xfrm>
        <a:graphic>
          <a:graphicData uri="http://schemas.openxmlformats.org/drawingml/2006/table">
            <a:tbl>
              <a:tblPr/>
              <a:tblGrid>
                <a:gridCol w="1230120"/>
                <a:gridCol w="1230480"/>
                <a:gridCol w="1228680"/>
                <a:gridCol w="1228680"/>
                <a:gridCol w="1230480"/>
                <a:gridCol w="1230120"/>
                <a:gridCol w="1231920"/>
              </a:tblGrid>
              <a:tr h="5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Inter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Pr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Met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Ana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elopha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To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Class Percen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Rectangle 186"/>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plants, the roots grow as they search for water and nutrients. These regions of growth are good for studying the cell cycle because at any given time, you can find cells that are undergoing mitosis. (Interphase is NOT considered a phase of mitosis, however it is part of the cell cyc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Background</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prepared microscope slides of thin slices of onion root tips. These tips are the part of the root that is constantly growing in order to find nutrients and wa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Hypothesi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day you will be looking at 25 onion root cells. Your hypothesis should be a statement as to what </a:t>
            </a:r>
            <a:r>
              <a:rPr b="1" lang="en-US" sz="2700" spc="-1" strike="noStrike">
                <a:solidFill>
                  <a:srgbClr val="000000"/>
                </a:solidFill>
                <a:latin typeface="Georgia"/>
              </a:rPr>
              <a:t>percentage </a:t>
            </a:r>
            <a:r>
              <a:rPr b="0" lang="en-US" sz="2700" spc="-1" strike="noStrike">
                <a:solidFill>
                  <a:srgbClr val="000000"/>
                </a:solidFill>
                <a:latin typeface="Georgia"/>
              </a:rPr>
              <a:t>of these constantly splitting cells will be in interphase, prophase, metaphase, anaphase and telopha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Material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rosco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pared slides of onion root tip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ta shee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ed Penci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ere To Look</a:t>
            </a:r>
            <a:endParaRPr b="0" lang="en-US" sz="3300" spc="-1" strike="noStrike">
              <a:solidFill>
                <a:srgbClr val="7b9899"/>
              </a:solidFill>
              <a:latin typeface="Georgia"/>
            </a:endParaRPr>
          </a:p>
        </p:txBody>
      </p:sp>
      <p:pic>
        <p:nvPicPr>
          <p:cNvPr id="617" name="Picture 5" descr="onion_root_mitosis">
            <a:hlinkClick r:id="rId1"/>
          </p:cNvPr>
          <p:cNvPicPr/>
          <p:nvPr/>
        </p:nvPicPr>
        <p:blipFill>
          <a:blip r:embed="rId2"/>
          <a:stretch/>
        </p:blipFill>
        <p:spPr>
          <a:xfrm>
            <a:off x="2438280" y="1295280"/>
            <a:ext cx="4364280" cy="51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rphase</a:t>
            </a:r>
            <a:endParaRPr b="0" lang="en-US" sz="3300" spc="-1" strike="noStrike">
              <a:solidFill>
                <a:srgbClr val="7b9899"/>
              </a:solidFill>
              <a:latin typeface="Georgia"/>
            </a:endParaRPr>
          </a:p>
        </p:txBody>
      </p:sp>
      <p:pic>
        <p:nvPicPr>
          <p:cNvPr id="619" name="Picture 2" descr="Image result for onion root tip interphase"/>
          <p:cNvPicPr/>
          <p:nvPr/>
        </p:nvPicPr>
        <p:blipFill>
          <a:blip r:embed="rId1"/>
          <a:srcRect l="23348" t="4441" r="26553" b="39836"/>
          <a:stretch/>
        </p:blipFill>
        <p:spPr>
          <a:xfrm>
            <a:off x="2666880" y="2362320"/>
            <a:ext cx="3840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phase</a:t>
            </a:r>
            <a:endParaRPr b="0" lang="en-US" sz="3300" spc="-1" strike="noStrike">
              <a:solidFill>
                <a:srgbClr val="7b9899"/>
              </a:solidFill>
              <a:latin typeface="Georgia"/>
            </a:endParaRPr>
          </a:p>
        </p:txBody>
      </p:sp>
      <p:pic>
        <p:nvPicPr>
          <p:cNvPr id="621" name="Picture 5" descr="prophase"/>
          <p:cNvPicPr/>
          <p:nvPr/>
        </p:nvPicPr>
        <p:blipFill>
          <a:blip r:embed="rId1"/>
          <a:stretch/>
        </p:blipFill>
        <p:spPr>
          <a:xfrm>
            <a:off x="274320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aphase</a:t>
            </a:r>
            <a:endParaRPr b="0" lang="en-US" sz="3300" spc="-1" strike="noStrike">
              <a:solidFill>
                <a:srgbClr val="7b9899"/>
              </a:solidFill>
              <a:latin typeface="Georgia"/>
            </a:endParaRPr>
          </a:p>
        </p:txBody>
      </p:sp>
      <p:pic>
        <p:nvPicPr>
          <p:cNvPr id="623" name="Picture 5" descr="metaphase"/>
          <p:cNvPicPr/>
          <p:nvPr/>
        </p:nvPicPr>
        <p:blipFill>
          <a:blip r:embed="rId1"/>
          <a:stretch/>
        </p:blipFill>
        <p:spPr>
          <a:xfrm>
            <a:off x="2743200" y="1295280"/>
            <a:ext cx="34732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2:45:27Z</dcterms:created>
  <dc:creator>Mike Owdij</dc:creator>
  <dc:description/>
  <dc:language>en-US</dc:language>
  <cp:lastModifiedBy>Owdij, Michael</cp:lastModifiedBy>
  <dcterms:modified xsi:type="dcterms:W3CDTF">2016-11-30T17:20:54Z</dcterms:modified>
  <cp:revision>7</cp:revision>
  <dc:subject/>
  <dc:title>Onion Root Mitosis</dc:title>
</cp:coreProperties>
</file>