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CF798-2E27-4EBE-AA39-437C6FBE8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85649-0AE5-41F3-9B4A-3BF934D21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0FCA6F9-AC31-4E80-8019-488C82978DB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7CEE0A6-C7CA-45F9-8C2C-2A46946F039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356AB33-A05B-418B-8E13-AF67074D83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3F4569B-DE79-472D-B735-0A58521071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A8883D5-6243-48C0-B720-8740A0C916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0136EE-8545-4E7B-8CBB-BA8B5D1B75E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0C3B19C-3B40-4AD3-A7B4-A43B0B26297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4BFD7F2-F862-444D-95FA-65A859B41D6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94AC067-EC40-4639-83CC-5FD66A5F988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A188B0F-745F-4720-B34F-4C79D01A9F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A741C-E284-48DC-ABDF-264C3B274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F3B6DEE-8D1B-4FD4-BE26-584F40AB65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6ABAA74-585F-4F07-8E85-13129E5D55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DE87204-B585-4D7A-AF9D-61580E32F0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758604E-3D42-467E-8B48-66410D4A44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2FE6B88-7BCC-4B3A-8497-E3252C4824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60F265C-5EE2-41A4-AD72-3757CBB129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95908BB-E7B4-4DC4-910E-11673DBFC7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E59F71-61A9-498E-8F64-6FC602BB3F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3ADC451-EC01-4771-A7EC-AAFB04A7F0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355DFEE-7656-4F2E-8EDB-E6A85C5D86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14C3C-EEE8-43FB-B2E3-82948BBA3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90BD662-1B9A-4FB1-AA59-7D185D729C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F84C1D-A025-43D6-870D-CE9D065FE5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E65054-7AC6-48F5-BA43-5EE235D46A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36CA3D-001C-4122-8FA9-287132FA39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5F9A6F-AB32-48C7-8A47-DF3CC37373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6C2760-2F88-4D31-AAEB-2244CFC678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2C5473-5494-4C65-8264-E4DA9F88E8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3BD268-036C-46B3-A25D-BA92D637B4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B58D33-1038-401E-A5CF-64AC5621CB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DC9AB7-4E1F-4FDE-B790-E2E06BEA2D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751E5-1F06-4E72-A353-A2F070737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22D442-AB5B-4C2C-BCBC-F1354ED523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D1752B-0BFC-47AD-A2F9-AA3CE145CC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8095F2-AC5E-4F6F-8B3D-628D20595A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4DB8BD4-3021-4518-B040-618B11C163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7257F47-990A-4F76-967F-629945DA8B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DFC109A-501D-495B-B67C-13C7A32AD8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0D82707-AB95-4183-A75A-AD9931CE6B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B606612-4DA3-4F2A-8A5A-887DECD0A0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C4C9CD3-7C7A-45F9-BDBB-E9628F45A9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80C29B-FFB0-47F1-99FC-E22FB760AA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077D7-438D-4551-9913-F061993EF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8D5DFEB-5056-4774-A5EE-FD0259B5DD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BD1049-79C0-4F07-A41B-783D764BCC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594A581-1AB9-48F6-9F88-CE418BB7B2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AD6C059-D149-494A-9A69-184508D01D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FBDA481-9D16-4901-94F6-6683748E90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D8033-6079-4C10-8257-8DA897128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8CD83-EA42-4E97-9EF4-DC5BF8BAE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3D5CD-E01B-4A5A-AE27-14FAE65DA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0C193-CE16-403F-97DF-C60D68FD3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D1905-5E8E-470F-B2CE-36F3E678B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F7A0B-6DED-4396-B6A6-F53211217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1AA9C-5FEF-47CF-A685-240F81ED2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207B6-3372-4C1D-9ADD-02F52994B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12F68-A9F1-4D3E-A55A-E8A374BF3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09342-A596-496F-B6DB-A25AB2BF9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90DA9-29A5-48D4-B332-1453C52AC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BBB69D-CE9C-477C-A3EB-3EB397D2E9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8A19C-7D96-4C03-8EB9-18026C69E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26B09-359F-4997-B41F-583F79994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FEC41-3D0D-43EE-ADA8-DA3AB302D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58FBA-C65A-4746-BEC9-964DFB082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73F1A-E044-403D-98B2-7405312C0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B91301-7E8C-45CE-B8D5-3041115E1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1C320-BDFA-4F1A-B3AE-D06107417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80879-3BA3-4108-850E-0D451BA8F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46379-B716-4253-B192-216C5C593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7E758-0FF8-4EAA-920F-34C9A8F04B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B72160-274F-4B58-8006-E80480866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F208CC-F46E-4406-AC8A-38B3D99F0D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3D3A717-3E39-41DD-A258-1268A4AD9DF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70619AD-DC60-49D1-B1D1-A8E6F0B0F6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4372AE2-2A77-458D-B951-57CFCD16B8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C5F3C-0EC3-4A67-8925-A14ECA3C2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C16F12-5C96-48D2-8788-15B625624A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479924A-F66F-4133-BD3C-239B6AF021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42335F1-0916-4169-B74A-29C9832C45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E057586-29B0-4CA9-9F14-F122B58AE8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59DA205-72BF-445D-A69F-356C936D76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9CA6429-D2E7-4930-A4DE-8AB0666F01D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00D6E5A-200B-45D4-ADA6-9827939F39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ADCA5F3-FF2F-4C47-85D2-A56F00A4331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0078A46-7472-442C-A62A-B644D93DFA6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2A19F0-6296-4F0A-9C03-99634C5C49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DFDE4-784A-4710-A675-8DDFABB63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9E362-88A2-4F84-B4BE-945760923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3FDCD5-C520-4C41-BFA4-97D9873D9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1D8798-C452-47E8-9717-E3301015F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EDF333-BBF1-4AA8-8CD7-530F0B5E88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939F7D-E50E-4F50-9B51-9FFE80DD9A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25D33-1EE5-4AE2-AE0D-A18DC08CF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0D861F-1B1D-4A00-B1A8-5EDED07F4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E7D10-0803-40F6-B015-E4A3DCE7D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30088-9D73-4D9B-B443-4F619C930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3B1B44-61C5-49C0-BDFA-1DC394A4D2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05C82-A92D-4370-81E5-BE56BD2F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514808-F034-4292-B27B-54353F4FBA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9073A7-ADD6-4A25-94EC-59D2F37DCD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33C90-093E-42B2-BE2C-8052BDDD21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6CF57-4992-4AC4-96F6-765F532FA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4BC86F-E1FC-42F8-940F-660F3F03A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A41F77-6071-4D1C-922D-6A3A7DD6B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134266-2896-4DA3-84B5-1BC33139E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188B9-A803-4F65-94D0-C4F573C1F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AA207-B060-4BEE-9272-8C30DF621B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586FC-EE6C-40A1-8469-E7E9480E5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ED6D-4B36-4E05-8022-DAF1D6F62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FD587-C52D-489B-8494-DC2495B3B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830A59-FF67-42C8-9745-DCBD9DFFF6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900C58-606A-4756-8BF9-E93885484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7C0A5F-4890-4E41-B022-952C25558E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E0D96-1E44-4D38-8188-B45A4DDF0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3508F2-5F62-4E93-8245-5C545D1B91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A779D-C1F8-4A27-AAEE-A91D363DCC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6395EE-DF1C-42D8-95BE-A904E77406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0022A-985E-45C5-92B1-4BEFF8313D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300F43-C460-4E80-9A76-FB06BBBAC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0948C-25DC-4621-BC68-0AF61C26E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46C88-8CAE-4CE7-A8D8-6DD60E0C0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21E0A-85D9-435A-9B78-EAF0FE33D0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3F4E7B-0253-4286-AD13-F180BAC78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4F9A77-61A5-48A0-A5AB-19DF2D700A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4F90E-4529-4346-9606-494E67268D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C24B56-2F1A-49B5-B09F-FB571666DC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F4BDBE-5331-44FC-B8E2-8D1E840333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709114-702F-40AE-8A12-65B18DD03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A7E2FC-73BF-4CEC-B776-9EDCE0A299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7AE2B-833F-45F8-ABA7-FCF5D8293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1EF7-E13F-4B38-B7CA-5E10CEB3C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D3CFFC-506D-490F-8136-6291CDEBE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DBE22-6063-462A-A9AC-4CBCD08F1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92B18-4BCE-4467-ACF6-6D089C335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0BC71-3412-4814-9BC5-06751791FC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196785-BCB8-4838-A936-D86009ED67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4FD60C-C1B9-4585-8A74-B34B7BD19E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64C99A-1B54-4E80-A1D4-315D931EBC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CC30B56-5C14-4815-A924-2F87E7FB327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6E1D13D-C8B1-49E7-8713-0A1967A4C2D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7752B44-9BE3-4835-A101-AF84EA7B3AB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7205-C329-407B-94FA-2251B349A1E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B7B5-51EB-45D7-B8AC-913008FD844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E9AD-7A05-479A-8388-4EF35635C13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B414-F2FD-4005-B328-4CD51A67C1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AEBB-5727-4DDF-8B04-E674F223AB2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D874-6BB6-40B0-9898-E087C956051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317B-74D0-4E75-8E44-E308960E0F2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F2ED-57AD-4986-BC05-321833E961A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9C91-0E11-46D9-A028-B874C8CCBE4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7531-0E2D-408A-BAFB-0573A209662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27B3-D3BB-4CF9-973A-59CDA7CF53C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7B46-7ECF-4978-B3C2-7158A57E510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5"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7"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ytokinesis</a:t>
            </a:r>
            <a:endParaRPr b="0" lang="en-US" sz="3300" spc="-1" strike="noStrike">
              <a:solidFill>
                <a:srgbClr val="7b9899"/>
              </a:solidFill>
              <a:latin typeface="Georgia"/>
            </a:endParaRPr>
          </a:p>
        </p:txBody>
      </p:sp>
      <p:sp>
        <p:nvSpPr>
          <p:cNvPr id="62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4" descr="Image result for onion root tip cytokinesis"/>
          <p:cNvPicPr/>
          <p:nvPr/>
        </p:nvPicPr>
        <p:blipFill>
          <a:blip r:embed="rId1"/>
          <a:srcRect l="12499" t="7775" r="10002" b="24446"/>
          <a:stretch/>
        </p:blipFill>
        <p:spPr>
          <a:xfrm>
            <a:off x="1447920" y="2057400"/>
            <a:ext cx="58086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32"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3"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erphase</a:t>
            </a:r>
            <a:endParaRPr b="0" lang="en-US" sz="3300" spc="-1" strike="noStrike">
              <a:solidFill>
                <a:srgbClr val="7b9899"/>
              </a:solidFill>
              <a:latin typeface="Georgia"/>
            </a:endParaRPr>
          </a:p>
        </p:txBody>
      </p:sp>
      <p:pic>
        <p:nvPicPr>
          <p:cNvPr id="619" name="Picture 2" descr="Image result for onion root tip interphase"/>
          <p:cNvPicPr/>
          <p:nvPr/>
        </p:nvPicPr>
        <p:blipFill>
          <a:blip r:embed="rId1"/>
          <a:srcRect l="23348" t="4441" r="26553" b="39836"/>
          <a:stretch/>
        </p:blipFill>
        <p:spPr>
          <a:xfrm>
            <a:off x="2666880" y="2362320"/>
            <a:ext cx="3840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21"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3"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6-11-30T17:20:54Z</dcterms:modified>
  <cp:revision>7</cp:revision>
  <dc:subject/>
  <dc:title>Onion Root Mitosis</dc:title>
</cp:coreProperties>
</file>