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D5B3-17C0-4D9B-964C-EA6E12EC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F015-AA77-4AF7-868F-CA65E4F7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29FE-FCB6-4363-8257-4A458186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6822-3CA3-4A5C-B36F-3DBE56ED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FEF4-6FFD-4611-92BF-4DD8FF9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BA16-3F27-4FED-9176-F2F860A6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DE87-AD16-4C89-B726-DA5F4300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FB16-90DD-4EBF-A6AA-64EA47F1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0B38-C0BE-407E-A728-AB0EBDB9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A588-2CFF-4817-9B73-43954E8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D65B-98C8-4B8B-BABC-9CBD49C3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CFE0-4742-4179-BEF2-FC61652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2237-5568-48A0-BC93-268AA80FE7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Nutritional Information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For the High Performance Athle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Picture 2" descr="http://www.t-nation.com/img/photos/2010/10-hpm-01/HPmass01.jpg"/>
          <p:cNvPicPr/>
          <p:nvPr/>
        </p:nvPicPr>
        <p:blipFill>
          <a:blip r:embed="rId1"/>
          <a:stretch/>
        </p:blipFill>
        <p:spPr>
          <a:xfrm>
            <a:off x="5257800" y="299880"/>
            <a:ext cx="2876400" cy="16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encrypted-tbn1.gstatic.com/images?q=tbn:ANd9GcS6NQggZepX7eYjI9Hi1AAcZd6899pP-H2UUQzPEjOStwFN9Mzh"/>
          <p:cNvPicPr/>
          <p:nvPr/>
        </p:nvPicPr>
        <p:blipFill>
          <a:blip r:embed="rId2"/>
          <a:stretch/>
        </p:blipFill>
        <p:spPr>
          <a:xfrm>
            <a:off x="5700600" y="2133720"/>
            <a:ext cx="19908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garagewarrior.com/wp-content/uploads/2012/09/upper-body-strength.jpg"/>
          <p:cNvPicPr/>
          <p:nvPr/>
        </p:nvPicPr>
        <p:blipFill>
          <a:blip r:embed="rId3"/>
          <a:stretch/>
        </p:blipFill>
        <p:spPr>
          <a:xfrm>
            <a:off x="5257800" y="4711680"/>
            <a:ext cx="28764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440" y="1638360"/>
            <a:ext cx="38862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Lean proteins should be the center piece to any good die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 gets a lot of attention, however it is not the only thing you should focus o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5280" indent="-2034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Proteins are essential for your body to build, repair and use the various muscle group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2" descr="http://www.jewishjournal.com/images/bloggers/high-protein-diet.jpg"/>
          <p:cNvPicPr/>
          <p:nvPr/>
        </p:nvPicPr>
        <p:blipFill>
          <a:blip r:embed="rId1"/>
          <a:stretch/>
        </p:blipFill>
        <p:spPr>
          <a:xfrm>
            <a:off x="228600" y="2057400"/>
            <a:ext cx="4264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reat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sein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gg Wh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m Milk, 1% Mil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Turke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Chic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llf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y Prote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ther good sources of protein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m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ass Fed Lean Beef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reek Yogu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n Por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ow Fat Chee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y Bea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3962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lean protei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consuming at least 1.5g/lb of body weight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should be spaced out into 6-8 medium sized meals per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body can only absorb around 25g – 35g of protein an hou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0388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9528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ll carbohydrates are not created equa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shorter in length and provide short burst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ome carbohydrates are longer and a slower and steadier release of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5" name="Picture 2" descr="http://www.angrytrainerfitness.com/wp-content/uploads/2011/03/Carbohydrate-food-shot-carbs.jpg"/>
          <p:cNvPicPr/>
          <p:nvPr/>
        </p:nvPicPr>
        <p:blipFill>
          <a:blip r:embed="rId1"/>
          <a:stretch/>
        </p:blipFill>
        <p:spPr>
          <a:xfrm>
            <a:off x="3886200" y="1992240"/>
            <a:ext cx="439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consistent flow of carbohydrate energy allows your body to function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t will ensure that your body does not have to break down body tissues to get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2" descr="http://www.healthcentral.com/common/images/1/19529_3659_5.jpg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Carbohydra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hort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igh fructose corn syru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xt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cr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fined sug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ng Chain Carbohydra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Grai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ultigrain brea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rown Ri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le Wheat Pas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36840"/>
            <a:ext cx="3657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pids (fats) often get a bad rap because they carry high amounts of calories per gram (9kCal/g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s is opposed to carbs 4-5kCal/g and protein 4kCal/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 healthy fats are part of any balanced die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2" descr="http://fitssentialliving.com/wp-content/uploads/2013/08/healthy-fats-1.jpg"/>
          <p:cNvPicPr/>
          <p:nvPr/>
        </p:nvPicPr>
        <p:blipFill>
          <a:blip r:embed="rId1"/>
          <a:stretch/>
        </p:blipFill>
        <p:spPr>
          <a:xfrm>
            <a:off x="4272120" y="2743200"/>
            <a:ext cx="38764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19720" y="13712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althier fats are un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easier for your body to break dow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healthier fats are saturated fa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se are hard for the body to break down and can pile up in the blood when eaten in exce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general rule is that if the fat is liquid at room temperature, it is unsaturated. If it is solid at room temperature it is unsatura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7" name="Picture 2" descr="http://www.anthonyjanicas.com/wp-content/uploads/2013/06/FatCategoriesChart.jpg"/>
          <p:cNvPicPr/>
          <p:nvPr/>
        </p:nvPicPr>
        <p:blipFill>
          <a:blip r:embed="rId1"/>
          <a:stretch/>
        </p:blipFill>
        <p:spPr>
          <a:xfrm>
            <a:off x="168120" y="2708280"/>
            <a:ext cx="43596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 - Lipi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most important and readily available healthy fat to be consumed are Omega 3s and Omega 6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fats are easily broken down by the body and can take the place of less healthy fa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se can be found in fish, nuts, seeds, healthy oils and mor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0" name="Picture 2" descr="http://nicoleleon.net/wp-content/uploads/2013/11/omegapills2.jpg"/>
          <p:cNvPicPr/>
          <p:nvPr/>
        </p:nvPicPr>
        <p:blipFill>
          <a:blip r:embed="rId1"/>
          <a:stretch/>
        </p:blipFill>
        <p:spPr>
          <a:xfrm>
            <a:off x="4419720" y="1523880"/>
            <a:ext cx="3495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many calories you have eaten throughout the day can be tax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owever, tracking how many grams of protein you consume daily and your calorie intake is vital to building lean musc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3" name="Picture 2" descr="http://www.rustnutrition.com/images/Cover.jpg"/>
          <p:cNvPicPr/>
          <p:nvPr/>
        </p:nvPicPr>
        <p:blipFill>
          <a:blip r:embed="rId1"/>
          <a:stretch/>
        </p:blipFill>
        <p:spPr>
          <a:xfrm>
            <a:off x="4952880" y="1676520"/>
            <a:ext cx="2857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5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day’s Topic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lorie Intak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ypes of Foo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eIt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44792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at and Wh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0 to G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114800" y="380880"/>
            <a:ext cx="421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Tomorrow’s Topics 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153684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e app Loseit! Is available on most smartphones and iPod devic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track your daily intake of food and automatically update to show you a basic dietary analysi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t will guide you on caloric intake, protein intake, carbohydrate intake and fat intak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6" name="Picture 2" descr="http://tobifairley.com/blog/wp-content/uploads/2012/11/lostit.jpg"/>
          <p:cNvPicPr/>
          <p:nvPr/>
        </p:nvPicPr>
        <p:blipFill>
          <a:blip r:embed="rId1"/>
          <a:stretch/>
        </p:blipFill>
        <p:spPr>
          <a:xfrm>
            <a:off x="457200" y="2057400"/>
            <a:ext cx="3857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seit!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O NOT USE THIS APP TO LOSE WEIG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app is generally designed to help people lose weight, however we are going to use it to track our food and increase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11252" t="0" r="10161" b="0"/>
          <a:stretch/>
        </p:blipFill>
        <p:spPr>
          <a:xfrm>
            <a:off x="4419720" y="1447920"/>
            <a:ext cx="3733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how to eat is only half of the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derstanding when to eat is the other half of that batt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king decisions about when to supply your body with nutrients is vital to increasing muscle mas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2" descr="http://www.rippedout.com/wp-content/uploads/2012/07/When-to-Eat-Carbs-Carb-Clock.jpg"/>
          <p:cNvPicPr/>
          <p:nvPr/>
        </p:nvPicPr>
        <p:blipFill>
          <a:blip r:embed="rId1"/>
          <a:stretch/>
        </p:blipFill>
        <p:spPr>
          <a:xfrm>
            <a:off x="4114800" y="1676520"/>
            <a:ext cx="42861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ncreasing muscle mass is about keeping your metabolism up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Metabolism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– the sum of all chemical reactions in an organism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For dietary nutrition it describes what you are doing with all the food that you ea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Picture 2" descr="http://www.improving-health-and-energy.com/images/digestion-absorption.jpg"/>
          <p:cNvPicPr/>
          <p:nvPr/>
        </p:nvPicPr>
        <p:blipFill>
          <a:blip r:embed="rId1"/>
          <a:stretch/>
        </p:blipFill>
        <p:spPr>
          <a:xfrm>
            <a:off x="304920" y="1828800"/>
            <a:ext cx="4105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processing more nutrien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upplying your body with more calo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are absorbing more protein during the course of a d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8" name="Picture 2" descr="http://tipsaholic.com/wp-content/uploads/2013/08/7-easy-tips-how-to-increase-your-metabolism.jpg"/>
          <p:cNvPicPr/>
          <p:nvPr/>
        </p:nvPicPr>
        <p:blipFill>
          <a:blip r:embed="rId1"/>
          <a:stretch/>
        </p:blipFill>
        <p:spPr>
          <a:xfrm>
            <a:off x="4800600" y="137160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ing your metabolism “up” is ea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Keep food in your stomach at all tim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iquids generally leave your stomach in under 45 minu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ood generally leave your stomach in under 3 hou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2" descr="http://myreleaseplan.com/blog/wp-content/uploads/2013/10/time-eating.png"/>
          <p:cNvPicPr/>
          <p:nvPr/>
        </p:nvPicPr>
        <p:blipFill>
          <a:blip r:embed="rId1"/>
          <a:stretch/>
        </p:blipFill>
        <p:spPr>
          <a:xfrm>
            <a:off x="533520" y="2057400"/>
            <a:ext cx="373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and Wh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bsorbing nutrients when your muscle cells need them plays a critical role in maintaining strength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Muscle cells need lean protein and carbohydrates after a rigorous workout or a long period with no foo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lif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a good nights slee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2" descr="http://www.oneresult.com/sites/default/files/u4/1_4.jpg"/>
          <p:cNvPicPr/>
          <p:nvPr/>
        </p:nvPicPr>
        <p:blipFill>
          <a:blip r:embed="rId1"/>
          <a:stretch/>
        </p:blipFill>
        <p:spPr>
          <a:xfrm>
            <a:off x="4114800" y="2209680"/>
            <a:ext cx="42688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1447920"/>
            <a:ext cx="3657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ound 75% of Americans are chronically dehydrat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is means they do not maintain proper fluid levels to perform all cell function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ells require water to perform hydrolysis and create energ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2" descr="http://naturalgrocers.com/sites/default/files/water%20bottle.jpg"/>
          <p:cNvPicPr/>
          <p:nvPr/>
        </p:nvPicPr>
        <p:blipFill>
          <a:blip r:embed="rId1"/>
          <a:stretch/>
        </p:blipFill>
        <p:spPr>
          <a:xfrm>
            <a:off x="228600" y="1752480"/>
            <a:ext cx="43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</a:t>
            </a:r>
            <a:r>
              <a:rPr b="0" lang="en-US" sz="4600" spc="-1" strike="noStrike" baseline="-25000">
                <a:solidFill>
                  <a:srgbClr val="675e47"/>
                </a:solidFill>
                <a:latin typeface="Cambria"/>
              </a:rPr>
              <a:t>2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 to Go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 should be drinking at least 1-2 gallons a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ater should be drank throughout the da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rinking large quantities at once can lead to water intoxicat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0" name="Picture 2" descr="http://cdn.decorpad.com/photos/2008/09/10/9e3987296a9b.jpg"/>
          <p:cNvPicPr/>
          <p:nvPr/>
        </p:nvPicPr>
        <p:blipFill>
          <a:blip r:embed="rId1"/>
          <a:srcRect l="25598" t="0" r="24762" b="0"/>
          <a:stretch/>
        </p:blipFill>
        <p:spPr>
          <a:xfrm>
            <a:off x="4724280" y="1295280"/>
            <a:ext cx="28195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19720" y="1523520"/>
            <a:ext cx="3657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Whole foods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re foods that you can pick or purcha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Supplement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are designed to augment the nutrients that are being supplied by whole food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upplements are not designed to replace mea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Picture 2" descr="http://www.build-the-body.com/image-files/muscle-building-supplements.jpg"/>
          <p:cNvPicPr/>
          <p:nvPr/>
        </p:nvPicPr>
        <p:blipFill>
          <a:blip r:embed="rId1"/>
          <a:stretch/>
        </p:blipFill>
        <p:spPr>
          <a:xfrm>
            <a:off x="304920" y="1828800"/>
            <a:ext cx="42861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body is a machine that requires specific things to function correct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n athlete you need to make sure that your body is getting the correct amount of things that you need in order to perform at a high lev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4" name="Picture 2" descr="http://www.industrialfocus.co.uk/data/images/4507.jpg"/>
          <p:cNvPicPr/>
          <p:nvPr/>
        </p:nvPicPr>
        <p:blipFill>
          <a:blip r:embed="rId1"/>
          <a:stretch/>
        </p:blipFill>
        <p:spPr>
          <a:xfrm>
            <a:off x="4290840" y="2436840"/>
            <a:ext cx="40388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36480"/>
            <a:ext cx="3657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most important supplements that you can take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sh oil (2-3mg twice a day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ey Protein + Simple Carbohydrates post workout (35g protein and 60g simple carb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ine (Monohydrate, CEE capsules or microioniz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6" name="Picture 2" descr="http://bonfirehealth.com/wp-content/uploads/2011/08/00supplements.jpg"/>
          <p:cNvPicPr/>
          <p:nvPr/>
        </p:nvPicPr>
        <p:blipFill>
          <a:blip r:embed="rId1"/>
          <a:stretch/>
        </p:blipFill>
        <p:spPr>
          <a:xfrm>
            <a:off x="4114800" y="1905120"/>
            <a:ext cx="414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19720" y="1536840"/>
            <a:ext cx="3657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Other supplements that can greatly help are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time release protein blend taken before bed (Casein prote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ultivitamin (B6, Thiamine and Niac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Vitamin D + Calcium supplemen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Picture 2" descr="http://www.build-the-body.com/image-files/load%20of%20muscle%20building%20supplements.jpg"/>
          <p:cNvPicPr/>
          <p:nvPr/>
        </p:nvPicPr>
        <p:blipFill>
          <a:blip r:embed="rId1"/>
          <a:stretch/>
        </p:blipFill>
        <p:spPr>
          <a:xfrm>
            <a:off x="304920" y="23623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uppleme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9720" y="1371240"/>
            <a:ext cx="3657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re are some supplements to avoid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ny hormone supplement (testosterone, estrogen, HGH, etc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Preworkou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588240" indent="-21024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ny contain dangerous amounts of caffeine and do little before a workou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2" name="Picture 7" descr="http://onlyaboutpregnancy.com/wp-content/uploads/2013/10/foods-to-avoid.png"/>
          <p:cNvPicPr/>
          <p:nvPr/>
        </p:nvPicPr>
        <p:blipFill>
          <a:blip r:embed="rId1"/>
          <a:stretch/>
        </p:blipFill>
        <p:spPr>
          <a:xfrm>
            <a:off x="38088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MPORTANT INFOR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2949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, all of these are generalized sugges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a coaching staff we do not think there is only one way to get in shap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ach and every person is different with different needs, backgrounds and medical restri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 should proceed with the plan that works best for you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5" name="Picture 2" descr="http://www.veganmainstream.com/wp-content/uploads/2010/08/caution_sign.jpg"/>
          <p:cNvPicPr/>
          <p:nvPr/>
        </p:nvPicPr>
        <p:blipFill>
          <a:blip r:embed="rId1"/>
          <a:stretch/>
        </p:blipFill>
        <p:spPr>
          <a:xfrm>
            <a:off x="4191120" y="2133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Your Bo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680" y="1523520"/>
            <a:ext cx="3657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ollowing PowerPoint is a brief guide to what you should be eating and drinking in order to help your body get stronger and fast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good nutrition plan is essential to increasing athletic performanc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2" descr="http://www.buzzle.com/img/articleImages/336820-49516-2.jpg"/>
          <p:cNvPicPr/>
          <p:nvPr/>
        </p:nvPicPr>
        <p:blipFill>
          <a:blip r:embed="rId1"/>
          <a:stretch/>
        </p:blipFill>
        <p:spPr>
          <a:xfrm>
            <a:off x="380880" y="2362320"/>
            <a:ext cx="4017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536480"/>
            <a:ext cx="403848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single kCal is the amount of energy needed to raise one liter of water one degre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energy found in calories is obtained through food items and can used by the bod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Your body needs specific amounts of food energy to move, function and grow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t is essential to get enough calories for your body to func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2" descr="http://5daniels10.greenwich.wikispaces.net/file/view/larry-fitzgerald-catch.jpg/196364254/larry-fitzgerald-catch.jpg"/>
          <p:cNvPicPr/>
          <p:nvPr/>
        </p:nvPicPr>
        <p:blipFill>
          <a:blip r:embed="rId1"/>
          <a:stretch/>
        </p:blipFill>
        <p:spPr>
          <a:xfrm>
            <a:off x="4267080" y="2209680"/>
            <a:ext cx="408960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720" y="1219320"/>
            <a:ext cx="3657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ny people will base their diet on a 2000 calorie budget (135lb female) or 2600 calorie budget (165lb male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s a growing high school athlete your calorie budget needs to be higher to maintain energy levels on and off the fiel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Picture 2" descr="http://nutrionandhealthrenewal.wikispaces.com/file/view/Nutritional-Information.jpg/135911727/Nutritional-Information.jpg"/>
          <p:cNvPicPr/>
          <p:nvPr/>
        </p:nvPicPr>
        <p:blipFill>
          <a:blip r:embed="rId1"/>
          <a:stretch/>
        </p:blipFill>
        <p:spPr>
          <a:xfrm>
            <a:off x="533520" y="1523880"/>
            <a:ext cx="353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19720" y="121932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If you do not consume enough calories to fuel your body, your body will find fuel any way possib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This means that your skeletal muscle tissue can be broken down to powe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You will be breaking down the muscle that you worked hard to build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2" descr="http://www.bodybuilding.com/fun/images/2010/gain-muscle-increasing-nutrient-utilization-insulin-efficiency_csm.jpg"/>
          <p:cNvPicPr/>
          <p:nvPr/>
        </p:nvPicPr>
        <p:blipFill>
          <a:blip r:embed="rId1"/>
          <a:stretch/>
        </p:blipFill>
        <p:spPr>
          <a:xfrm>
            <a:off x="304920" y="2133720"/>
            <a:ext cx="418788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alorie Intak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12949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800 and 4400 healthy calorie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n heavy work 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between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600 – 415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light workou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High school athletes should be consuming </a:t>
            </a:r>
            <a:r>
              <a:rPr b="0" lang="en-US" sz="2600" spc="-1" strike="noStrike" u="sng">
                <a:solidFill>
                  <a:srgbClr val="2f2b20"/>
                </a:solidFill>
                <a:uFillTx/>
                <a:latin typeface="Calibri"/>
              </a:rPr>
              <a:t>3300 – 3800 healthy calori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on rest day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3530520" y="2006640"/>
            <a:ext cx="497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ypes of Foo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5235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Each type of food that you eat contains three different types of molecul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tein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as building blocks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Carbohydrates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used for short term energ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Lipids (fats)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are long term energy storage for the body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2" name="Picture 2" descr="http://www.clemson.edu/centers-institutes/sullivan/patients/nutrition101/Protein/protein"/>
          <p:cNvPicPr/>
          <p:nvPr/>
        </p:nvPicPr>
        <p:blipFill>
          <a:blip r:embed="rId1"/>
          <a:stretch/>
        </p:blipFill>
        <p:spPr>
          <a:xfrm>
            <a:off x="3903840" y="2286000"/>
            <a:ext cx="43592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5:56:03Z</dcterms:created>
  <dc:creator>Administrator</dc:creator>
  <dc:description/>
  <dc:language>en-US</dc:language>
  <cp:lastModifiedBy>Administrator</cp:lastModifiedBy>
  <dcterms:modified xsi:type="dcterms:W3CDTF">2014-01-08T18:21:43Z</dcterms:modified>
  <cp:revision>49</cp:revision>
  <dc:subject/>
  <dc:title>Nutritional Information</dc:title>
</cp:coreProperties>
</file>