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400" y="690120"/>
            <a:ext cx="45972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476F-27E7-43A6-89F1-2BE30C97B8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D525-60A0-4F0C-B8AB-D07D96F12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E3CE-6D27-493D-A202-996BA013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20A-AB01-4290-B963-1C1B726E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4E63-1921-4D8F-95AA-EE0BC6B5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CBEA-FC5B-4FF6-9818-C7EA1716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4DD1-344C-44FA-9ABA-6F0D657A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00C-D5FF-41F5-9D41-264B0807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7441-5BF9-4BCE-BCAA-B4DB94C4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1AE-50F3-4AF3-BC08-4E290244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EFEE-D852-42C1-84DA-6B42D8DE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FEF-04F8-4AE4-8D4F-DC2337A3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4931-9AFE-4602-9DFD-AE38B786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E33-C53A-42C5-B2FB-B2FAF75E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435D-6886-4460-B2A7-BE41A72C3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http://www.mrfuller.net/thurston/website/images/MetricPrefixes.gif"/>
          <p:cNvPicPr/>
          <p:nvPr/>
        </p:nvPicPr>
        <p:blipFill>
          <a:blip r:embed="rId1"/>
          <a:srcRect l="12285" t="11112" r="13241" b="11112"/>
          <a:stretch/>
        </p:blipFill>
        <p:spPr>
          <a:xfrm>
            <a:off x="1219320" y="1371600"/>
            <a:ext cx="655308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 we take a basic unit of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we have our basic unit of measurement we can add a prefix to imply how many of that basic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lo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724280" y="5410080"/>
            <a:ext cx="42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Kilogram = How many gram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9" descr="http://www.centennial.k12.or.us/schools/cms/content/staff/tidswell_john/Metric_prefix_conversion.jpg"/>
          <p:cNvPicPr/>
          <p:nvPr/>
        </p:nvPicPr>
        <p:blipFill>
          <a:blip r:embed="rId1"/>
          <a:srcRect l="0" t="0" r="7140" b="0"/>
          <a:stretch/>
        </p:blipFill>
        <p:spPr>
          <a:xfrm>
            <a:off x="5715000" y="1523880"/>
            <a:ext cx="243828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 we take a basic unit of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we have our basic unit of measurement we can add a prefix to imply how many of that basic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i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19040" y="5587920"/>
            <a:ext cx="42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centiliter= How many lite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7" descr="http://www.centennial.k12.or.us/schools/cms/content/staff/tidswell_john/Metric_prefix_conversion.jpg"/>
          <p:cNvPicPr/>
          <p:nvPr/>
        </p:nvPicPr>
        <p:blipFill>
          <a:blip r:embed="rId1"/>
          <a:srcRect l="0" t="0" r="8069" b="0"/>
          <a:stretch/>
        </p:blipFill>
        <p:spPr>
          <a:xfrm>
            <a:off x="1371600" y="1600200"/>
            <a:ext cx="234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http://www.mrfuller.net/thurston/website/images/MetricPrefixes.gif"/>
          <p:cNvPicPr/>
          <p:nvPr/>
        </p:nvPicPr>
        <p:blipFill>
          <a:blip r:embed="rId1"/>
          <a:srcRect l="12285" t="11112" r="13241" b="11112"/>
          <a:stretch/>
        </p:blipFill>
        <p:spPr>
          <a:xfrm>
            <a:off x="380880" y="304920"/>
            <a:ext cx="5029200" cy="391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http://www.centennial.k12.or.us/schools/cms/content/staff/tidswell_john/Metric_prefix_conversion.jpg"/>
          <p:cNvPicPr/>
          <p:nvPr/>
        </p:nvPicPr>
        <p:blipFill>
          <a:blip r:embed="rId2"/>
          <a:srcRect l="0" t="0" r="8069" b="16167"/>
          <a:stretch/>
        </p:blipFill>
        <p:spPr>
          <a:xfrm>
            <a:off x="5638680" y="304920"/>
            <a:ext cx="3267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Measur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different ways to make scientific measurements of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t3.gstatic.com/images?q=tbn:ANd9GcRPTk3B1l-7HSfuvLPuERWpBNofqH5O38lthj1H3STr4rDXiAU&amp;t=1&amp;usg=__HBd_wDSBR5zegxEJZQjApN7tAhg="/>
          <p:cNvPicPr/>
          <p:nvPr/>
        </p:nvPicPr>
        <p:blipFill>
          <a:blip r:embed="rId1"/>
          <a:stretch/>
        </p:blipFill>
        <p:spPr>
          <a:xfrm>
            <a:off x="5334120" y="23623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USA, United Kingdom, Liberia and Myanmar use the English System of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mea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ance in the fo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ight in the p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mperature in the degree (Fahrenhei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ume in the gall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t1.gstatic.com/images?q=tbn:ANd9GcSpOP18GugdB22nAsna8no3TDp1yl7f8T4BqXjwNBsr6TQrYZ8&amp;t=1&amp;usg=__X8m7mFC9WzaIGUCNQLmnVo0_xwg="/>
          <p:cNvPicPr/>
          <p:nvPr/>
        </p:nvPicPr>
        <p:blipFill>
          <a:blip r:embed="rId1"/>
          <a:stretch/>
        </p:blipFill>
        <p:spPr>
          <a:xfrm>
            <a:off x="5257800" y="1530360"/>
            <a:ext cx="304812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cience and in most areas of the world the Metric System is used to make measu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ric system is a standard system that takes basic units and uses prefixes to determine am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www.allthingsdistributed.com/images/globe-europe.jpg"/>
          <p:cNvPicPr/>
          <p:nvPr/>
        </p:nvPicPr>
        <p:blipFill>
          <a:blip r:embed="rId1"/>
          <a:stretch/>
        </p:blipFill>
        <p:spPr>
          <a:xfrm>
            <a:off x="685800" y="1905120"/>
            <a:ext cx="33051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sic unit for distance is the 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measures length or distance between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eter is around 39 in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be Bryant is 1.9m t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www.sneakerfiles.com/wp-content/uploads/2009/02/on-court-kobe-bryant-vs-lebron-james-1.jpg"/>
          <p:cNvPicPr/>
          <p:nvPr/>
        </p:nvPicPr>
        <p:blipFill>
          <a:blip r:embed="rId1"/>
          <a:srcRect l="55698" t="0" r="0" b="0"/>
          <a:stretch/>
        </p:blipFill>
        <p:spPr>
          <a:xfrm>
            <a:off x="4680000" y="1219320"/>
            <a:ext cx="1898640" cy="5133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www.officedepot.com/pictures/sk/md/247973_sk_md.jpg"/>
          <p:cNvPicPr/>
          <p:nvPr/>
        </p:nvPicPr>
        <p:blipFill>
          <a:blip r:embed="rId2"/>
          <a:stretch/>
        </p:blipFill>
        <p:spPr>
          <a:xfrm rot="18940800">
            <a:off x="6948360" y="4322520"/>
            <a:ext cx="1835280" cy="183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www.officedepot.com/pictures/sk/md/247973_sk_md.jpg"/>
          <p:cNvPicPr/>
          <p:nvPr/>
        </p:nvPicPr>
        <p:blipFill>
          <a:blip r:embed="rId3"/>
          <a:stretch/>
        </p:blipFill>
        <p:spPr>
          <a:xfrm rot="18940800">
            <a:off x="6957720" y="1879560"/>
            <a:ext cx="183492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723920" y="1295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sic unit of measurement for mass is the 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am measures the amount of “stuff” in that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am is very similar to a papercl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am is very similar to one p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2"/>
          <p:cNvSpPr/>
          <p:nvPr/>
        </p:nvSpPr>
        <p:spPr>
          <a:xfrm>
            <a:off x="155520" y="-708120"/>
            <a:ext cx="147636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307800" y="-555480"/>
            <a:ext cx="147672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460440" y="-403200"/>
            <a:ext cx="147636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155520" y="-770040"/>
            <a:ext cx="160992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307800" y="-617400"/>
            <a:ext cx="160992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460440" y="-465120"/>
            <a:ext cx="160956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4"/>
          <p:cNvSpPr/>
          <p:nvPr/>
        </p:nvSpPr>
        <p:spPr>
          <a:xfrm>
            <a:off x="155520" y="-617400"/>
            <a:ext cx="1285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6"/>
          <p:cNvSpPr/>
          <p:nvPr/>
        </p:nvSpPr>
        <p:spPr>
          <a:xfrm>
            <a:off x="307800" y="-465120"/>
            <a:ext cx="12859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8"/>
          <p:cNvSpPr/>
          <p:nvPr/>
        </p:nvSpPr>
        <p:spPr>
          <a:xfrm>
            <a:off x="460440" y="-312840"/>
            <a:ext cx="12859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20"/>
          <p:cNvSpPr/>
          <p:nvPr/>
        </p:nvSpPr>
        <p:spPr>
          <a:xfrm>
            <a:off x="155520" y="-547560"/>
            <a:ext cx="14191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2" descr="http://t1.gstatic.com/images?q=tbn:ANd9GcRpxE-Zpt6ikGD6mrj2iDYX7wPrRjsKHttyMJc7anK3l0sqyzY&amp;t=1&amp;usg=__kNrVzQMfSY5poIKl-scIIxSZbxg="/>
          <p:cNvPicPr/>
          <p:nvPr/>
        </p:nvPicPr>
        <p:blipFill>
          <a:blip r:embed="rId1"/>
          <a:stretch/>
        </p:blipFill>
        <p:spPr>
          <a:xfrm>
            <a:off x="307800" y="1981080"/>
            <a:ext cx="4084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sic area of volume for is the l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iter measures the area an object takes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liter is a little more than a qua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to think of it in terms of soda bott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stockphotopro.com/photo-thumbs-2/A90XR3.jpg"/>
          <p:cNvPicPr/>
          <p:nvPr/>
        </p:nvPicPr>
        <p:blipFill>
          <a:blip r:embed="rId1"/>
          <a:stretch/>
        </p:blipFill>
        <p:spPr>
          <a:xfrm>
            <a:off x="5181480" y="1089000"/>
            <a:ext cx="36576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erature is measured in degrees on the Celsius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cale calibrates based on the temperature of freezing water (0 degrees) to the temperature of boiling water (100 degre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www.learner.org/courses/essential/physicalsci/images/s7.thermometer.jpg"/>
          <p:cNvPicPr/>
          <p:nvPr/>
        </p:nvPicPr>
        <p:blipFill>
          <a:blip r:embed="rId1"/>
          <a:stretch/>
        </p:blipFill>
        <p:spPr>
          <a:xfrm>
            <a:off x="609480" y="18288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metric system prefixes determine how many powers of ten a measurement is off from a base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prefixes mean different sizes in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across all types of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155520" y="-547560"/>
            <a:ext cx="14191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155520" y="-639720"/>
            <a:ext cx="19051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http://www.how-to-study.com/images/language-arts/common-prefixes-student.gif"/>
          <p:cNvPicPr/>
          <p:nvPr/>
        </p:nvPicPr>
        <p:blipFill>
          <a:blip r:embed="rId1"/>
          <a:stretch/>
        </p:blipFill>
        <p:spPr>
          <a:xfrm>
            <a:off x="4876920" y="2057400"/>
            <a:ext cx="3897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00:20:07Z</dcterms:created>
  <dc:creator>Mike</dc:creator>
  <dc:description/>
  <dc:language>en-US</dc:language>
  <cp:lastModifiedBy>Administrator</cp:lastModifiedBy>
  <dcterms:modified xsi:type="dcterms:W3CDTF">2012-08-30T11:20:19Z</dcterms:modified>
  <cp:revision>15</cp:revision>
  <dc:subject/>
  <dc:title>Metric System</dc:title>
</cp:coreProperties>
</file>