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D9A2-A8D4-451D-8631-C13E45FFE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5795-B08B-47DD-8576-99166AFC3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626-B7E1-4F39-9EE3-CBC8BBD1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813-CC8A-4D83-AFD6-BC28B19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C55-0114-452C-8AA4-4B1FD523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4FD-DF98-4B6C-9BF1-82FAF6B5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3CE-AB2C-41B1-899A-841DCA28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B5A-2E35-4599-B0A4-2236181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E00-C16E-4AC2-B18B-74D2D7F5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B55-F169-4046-893C-6C8400B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984-2BE3-47D3-93DE-D6B5B3D7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C8A-E9DD-45F3-97C7-961789D0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BA1-D5ED-4C12-BC5C-3FB873B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2E6-0F7A-4474-99A2-DFEE6E09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FF6B-4283-4145-BB7E-28FB725CB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http://www.mrfuller.net/thurston/website/images/MetricPrefixes.gif"/>
          <p:cNvPicPr/>
          <p:nvPr/>
        </p:nvPicPr>
        <p:blipFill>
          <a:blip r:embed="rId1"/>
          <a:srcRect l="12285" t="11112" r="13241" b="11112"/>
          <a:stretch/>
        </p:blipFill>
        <p:spPr>
          <a:xfrm>
            <a:off x="1219320" y="1371600"/>
            <a:ext cx="65530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we take a basic unit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our basic unit of measurement we can add a prefix to imply how many of that basic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24280" y="541008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ilogram = How many gram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http://www.centennial.k12.or.us/schools/cms/content/staff/tidswell_john/Metric_prefix_conversion.jpg"/>
          <p:cNvPicPr/>
          <p:nvPr/>
        </p:nvPicPr>
        <p:blipFill>
          <a:blip r:embed="rId1"/>
          <a:srcRect l="0" t="0" r="7140" b="0"/>
          <a:stretch/>
        </p:blipFill>
        <p:spPr>
          <a:xfrm>
            <a:off x="5715000" y="1523880"/>
            <a:ext cx="24382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we take a basic unit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our basic unit of measurement we can add a prefix to imply how many of that basic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i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19040" y="558792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centiliter= How many lite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http://www.centennial.k12.or.us/schools/cms/content/staff/tidswell_john/Metric_prefix_conversion.jpg"/>
          <p:cNvPicPr/>
          <p:nvPr/>
        </p:nvPicPr>
        <p:blipFill>
          <a:blip r:embed="rId1"/>
          <a:srcRect l="0" t="0" r="8069" b="0"/>
          <a:stretch/>
        </p:blipFill>
        <p:spPr>
          <a:xfrm>
            <a:off x="1371600" y="1600200"/>
            <a:ext cx="234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mrfuller.net/thurston/website/images/MetricPrefixes.gif"/>
          <p:cNvPicPr/>
          <p:nvPr/>
        </p:nvPicPr>
        <p:blipFill>
          <a:blip r:embed="rId1"/>
          <a:srcRect l="12285" t="11112" r="13241" b="11112"/>
          <a:stretch/>
        </p:blipFill>
        <p:spPr>
          <a:xfrm>
            <a:off x="380880" y="304920"/>
            <a:ext cx="5029200" cy="39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www.centennial.k12.or.us/schools/cms/content/staff/tidswell_john/Metric_prefix_conversion.jpg"/>
          <p:cNvPicPr/>
          <p:nvPr/>
        </p:nvPicPr>
        <p:blipFill>
          <a:blip r:embed="rId2"/>
          <a:srcRect l="0" t="0" r="8069" b="16167"/>
          <a:stretch/>
        </p:blipFill>
        <p:spPr>
          <a:xfrm>
            <a:off x="5638680" y="304920"/>
            <a:ext cx="3267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different ways to make scientific measurements of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3.gstatic.com/images?q=tbn:ANd9GcRPTk3B1l-7HSfuvLPuERWpBNofqH5O38lthj1H3STr4rDXiAU&amp;t=1&amp;usg=__HBd_wDSBR5zegxEJZQjApN7tAhg="/>
          <p:cNvPicPr/>
          <p:nvPr/>
        </p:nvPicPr>
        <p:blipFill>
          <a:blip r:embed="rId1"/>
          <a:stretch/>
        </p:blipFill>
        <p:spPr>
          <a:xfrm>
            <a:off x="533412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USA, United Kingdom, Liberia and Myanmar use the English System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ea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ance in the f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 in the 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 in the degree (Fahrenhe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me in the g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t1.gstatic.com/images?q=tbn:ANd9GcSpOP18GugdB22nAsna8no3TDp1yl7f8T4BqXjwNBsr6TQrYZ8&amp;t=1&amp;usg=__X8m7mFC9WzaIGUCNQLmnVo0_xwg="/>
          <p:cNvPicPr/>
          <p:nvPr/>
        </p:nvPicPr>
        <p:blipFill>
          <a:blip r:embed="rId1"/>
          <a:stretch/>
        </p:blipFill>
        <p:spPr>
          <a:xfrm>
            <a:off x="5257800" y="1530360"/>
            <a:ext cx="30481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cience and in most areas of the world the Metric System is used to make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ric system is a standard system that takes basic units and uses prefixes to determine am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allthingsdistributed.com/images/globe-europe.jpg"/>
          <p:cNvPicPr/>
          <p:nvPr/>
        </p:nvPicPr>
        <p:blipFill>
          <a:blip r:embed="rId1"/>
          <a:stretch/>
        </p:blipFill>
        <p:spPr>
          <a:xfrm>
            <a:off x="685800" y="190512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unit for distance is th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sures length or distance between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er is around 39 in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be Bryant is 1.9m t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sneakerfiles.com/wp-content/uploads/2009/02/on-court-kobe-bryant-vs-lebron-james-1.jpg"/>
          <p:cNvPicPr/>
          <p:nvPr/>
        </p:nvPicPr>
        <p:blipFill>
          <a:blip r:embed="rId1"/>
          <a:srcRect l="55698" t="0" r="0" b="0"/>
          <a:stretch/>
        </p:blipFill>
        <p:spPr>
          <a:xfrm>
            <a:off x="4680000" y="1219320"/>
            <a:ext cx="1898640" cy="513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officedepot.com/pictures/sk/md/247973_sk_md.jpg"/>
          <p:cNvPicPr/>
          <p:nvPr/>
        </p:nvPicPr>
        <p:blipFill>
          <a:blip r:embed="rId2"/>
          <a:stretch/>
        </p:blipFill>
        <p:spPr>
          <a:xfrm rot="18940800">
            <a:off x="6948360" y="432252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officedepot.com/pictures/sk/md/247973_sk_md.jpg"/>
          <p:cNvPicPr/>
          <p:nvPr/>
        </p:nvPicPr>
        <p:blipFill>
          <a:blip r:embed="rId3"/>
          <a:stretch/>
        </p:blipFill>
        <p:spPr>
          <a:xfrm rot="18940800">
            <a:off x="6957720" y="1879560"/>
            <a:ext cx="18349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239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unit of measurement for mass is the 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 measures the amount of “stuff” in that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m is very similar to a paperc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m is very similar to one p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5520" y="-708120"/>
            <a:ext cx="1476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07800" y="-555480"/>
            <a:ext cx="14767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60440" y="-403200"/>
            <a:ext cx="1476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770040"/>
            <a:ext cx="16099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307800" y="-617400"/>
            <a:ext cx="16099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60440" y="-465120"/>
            <a:ext cx="16095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55520" y="-617400"/>
            <a:ext cx="1285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6"/>
          <p:cNvSpPr/>
          <p:nvPr/>
        </p:nvSpPr>
        <p:spPr>
          <a:xfrm>
            <a:off x="307800" y="-465120"/>
            <a:ext cx="1285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460440" y="-312840"/>
            <a:ext cx="1285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155520" y="-547560"/>
            <a:ext cx="1419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2" descr="http://t1.gstatic.com/images?q=tbn:ANd9GcRpxE-Zpt6ikGD6mrj2iDYX7wPrRjsKHttyMJc7anK3l0sqyzY&amp;t=1&amp;usg=__kNrVzQMfSY5poIKl-scIIxSZbxg="/>
          <p:cNvPicPr/>
          <p:nvPr/>
        </p:nvPicPr>
        <p:blipFill>
          <a:blip r:embed="rId1"/>
          <a:stretch/>
        </p:blipFill>
        <p:spPr>
          <a:xfrm>
            <a:off x="307800" y="1981080"/>
            <a:ext cx="4084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area of volume for is the l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ter measures the area an object takes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liter is a little more than a qua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think of it in terms of soda bo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stockphotopro.com/photo-thumbs-2/A90XR3.jpg"/>
          <p:cNvPicPr/>
          <p:nvPr/>
        </p:nvPicPr>
        <p:blipFill>
          <a:blip r:embed="rId1"/>
          <a:stretch/>
        </p:blipFill>
        <p:spPr>
          <a:xfrm>
            <a:off x="5181480" y="1089000"/>
            <a:ext cx="3657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 is measured in degrees on the Celsius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cale calibrates based on the temperature of freezing water (0 degrees) to the temperature of boiling water (10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learner.org/courses/essential/physicalsci/images/s7.thermometer.jpg"/>
          <p:cNvPicPr/>
          <p:nvPr/>
        </p:nvPicPr>
        <p:blipFill>
          <a:blip r:embed="rId1"/>
          <a:stretch/>
        </p:blipFill>
        <p:spPr>
          <a:xfrm>
            <a:off x="609480" y="1828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metric system prefixes determine how many powers of ten a measurement is off from a bas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prefixes mean different sizes in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across all types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547560"/>
            <a:ext cx="1419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639720"/>
            <a:ext cx="19051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http://www.how-to-study.com/images/language-arts/common-prefixes-student.gif"/>
          <p:cNvPicPr/>
          <p:nvPr/>
        </p:nvPicPr>
        <p:blipFill>
          <a:blip r:embed="rId1"/>
          <a:stretch/>
        </p:blipFill>
        <p:spPr>
          <a:xfrm>
            <a:off x="4876920" y="2057400"/>
            <a:ext cx="389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0:20:07Z</dcterms:created>
  <dc:creator>Mike</dc:creator>
  <dc:description/>
  <dc:language>en-US</dc:language>
  <cp:lastModifiedBy>Administrator</cp:lastModifiedBy>
  <dcterms:modified xsi:type="dcterms:W3CDTF">2012-08-30T11:20:19Z</dcterms:modified>
  <cp:revision>15</cp:revision>
  <dc:subject/>
  <dc:title>Metric System</dc:title>
</cp:coreProperties>
</file>