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3F2-4691-44C2-9A93-6728DDA65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3B6-8F91-451E-8747-23364B62E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FC2-117C-4BE7-A837-581F6FC0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854-9E4F-4D8E-9A9A-5EFCA34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4FF-183A-4159-B4F5-B020348E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DD-3A25-4583-A067-C594418B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E7E-4107-469D-AC7C-6A3C045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E68-5B05-4ECE-9CF6-2F4C985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D81-719C-47FE-9748-5BAAF58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C51-0974-4565-BFB1-ABB3913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68D-48FA-4337-ADB7-8959852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DBB-B567-4A49-947B-F86EFD7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4DB-6D0B-42DA-8870-8B8BB31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131-2899-4959-AD4B-877D467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EA3-3A51-4422-ABE6-DBD543BD1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1219320" y="1371600"/>
            <a:ext cx="6553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24280" y="541008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ilogram = How many gra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http://www.centennial.k12.or.us/schools/cms/content/staff/tidswell_john/Metric_prefix_conversion.jpg"/>
          <p:cNvPicPr/>
          <p:nvPr/>
        </p:nvPicPr>
        <p:blipFill>
          <a:blip r:embed="rId1"/>
          <a:srcRect l="0" t="0" r="7140" b="0"/>
          <a:stretch/>
        </p:blipFill>
        <p:spPr>
          <a:xfrm>
            <a:off x="5715000" y="1523880"/>
            <a:ext cx="24382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19040" y="558792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entiliter= How many lit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http://www.centennial.k12.or.us/schools/cms/content/staff/tidswell_john/Metric_prefix_conversion.jpg"/>
          <p:cNvPicPr/>
          <p:nvPr/>
        </p:nvPicPr>
        <p:blipFill>
          <a:blip r:embed="rId1"/>
          <a:srcRect l="0" t="0" r="8069" b="0"/>
          <a:stretch/>
        </p:blipFill>
        <p:spPr>
          <a:xfrm>
            <a:off x="1371600" y="1600200"/>
            <a:ext cx="234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380880" y="304920"/>
            <a:ext cx="5029200" cy="39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centennial.k12.or.us/schools/cms/content/staff/tidswell_john/Metric_prefix_conversion.jpg"/>
          <p:cNvPicPr/>
          <p:nvPr/>
        </p:nvPicPr>
        <p:blipFill>
          <a:blip r:embed="rId2"/>
          <a:srcRect l="0" t="0" r="8069" b="16167"/>
          <a:stretch/>
        </p:blipFill>
        <p:spPr>
          <a:xfrm>
            <a:off x="5638680" y="304920"/>
            <a:ext cx="3267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different ways to make scientific measurement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RPTk3B1l-7HSfuvLPuERWpBNofqH5O38lthj1H3STr4rDXiAU&amp;t=1&amp;usg=__HBd_wDSBR5zegxEJZQjApN7tAhg="/>
          <p:cNvPicPr/>
          <p:nvPr/>
        </p:nvPicPr>
        <p:blipFill>
          <a:blip r:embed="rId1"/>
          <a:stretch/>
        </p:blipFill>
        <p:spPr>
          <a:xfrm>
            <a:off x="533412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SA, United Kingdom, Liberia and Myanmar use the English System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in the f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in the 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in the degree (Fahren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in the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t1.gstatic.com/images?q=tbn:ANd9GcSpOP18GugdB22nAsna8no3TDp1yl7f8T4BqXjwNBsr6TQrYZ8&amp;t=1&amp;usg=__X8m7mFC9WzaIGUCNQLmnVo0_xwg="/>
          <p:cNvPicPr/>
          <p:nvPr/>
        </p:nvPicPr>
        <p:blipFill>
          <a:blip r:embed="rId1"/>
          <a:stretch/>
        </p:blipFill>
        <p:spPr>
          <a:xfrm>
            <a:off x="5257800" y="1530360"/>
            <a:ext cx="30481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cience and in most areas of the world the Metric System is used to make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a standard system that takes basic units and uses prefixes to determine am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allthingsdistributed.com/images/globe-europe.jpg"/>
          <p:cNvPicPr/>
          <p:nvPr/>
        </p:nvPicPr>
        <p:blipFill>
          <a:blip r:embed="rId1"/>
          <a:stretch/>
        </p:blipFill>
        <p:spPr>
          <a:xfrm>
            <a:off x="685800" y="19051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for distance is th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sures length or distance between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er is around 39 in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be Bryant is 1.9m 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sneakerfiles.com/wp-content/uploads/2009/02/on-court-kobe-bryant-vs-lebron-james-1.jpg"/>
          <p:cNvPicPr/>
          <p:nvPr/>
        </p:nvPicPr>
        <p:blipFill>
          <a:blip r:embed="rId1"/>
          <a:srcRect l="55698" t="0" r="0" b="0"/>
          <a:stretch/>
        </p:blipFill>
        <p:spPr>
          <a:xfrm>
            <a:off x="4680000" y="1219320"/>
            <a:ext cx="1898640" cy="513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officedepot.com/pictures/sk/md/247973_sk_md.jpg"/>
          <p:cNvPicPr/>
          <p:nvPr/>
        </p:nvPicPr>
        <p:blipFill>
          <a:blip r:embed="rId2"/>
          <a:stretch/>
        </p:blipFill>
        <p:spPr>
          <a:xfrm rot="18940800">
            <a:off x="6948360" y="43225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officedepot.com/pictures/sk/md/247973_sk_md.jpg"/>
          <p:cNvPicPr/>
          <p:nvPr/>
        </p:nvPicPr>
        <p:blipFill>
          <a:blip r:embed="rId3"/>
          <a:stretch/>
        </p:blipFill>
        <p:spPr>
          <a:xfrm rot="18940800">
            <a:off x="6957720" y="1879560"/>
            <a:ext cx="1834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of measurement for mass is the 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 measures the amount of “stuff” in that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a paperc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one 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70812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07800" y="-555480"/>
            <a:ext cx="1476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0440" y="-40320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770040"/>
            <a:ext cx="16099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07800" y="-617400"/>
            <a:ext cx="16099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60440" y="-465120"/>
            <a:ext cx="16095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55520" y="-617400"/>
            <a:ext cx="1285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307800" y="-46512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460440" y="-31284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2" descr="http://t1.gstatic.com/images?q=tbn:ANd9GcRpxE-Zpt6ikGD6mrj2iDYX7wPrRjsKHttyMJc7anK3l0sqyzY&amp;t=1&amp;usg=__kNrVzQMfSY5poIKl-scIIxSZbxg="/>
          <p:cNvPicPr/>
          <p:nvPr/>
        </p:nvPicPr>
        <p:blipFill>
          <a:blip r:embed="rId1"/>
          <a:stretch/>
        </p:blipFill>
        <p:spPr>
          <a:xfrm>
            <a:off x="307800" y="1981080"/>
            <a:ext cx="4084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area of volume for is the 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ter measures the area an object take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liter is a little more than a qu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think of it in terms of soda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stockphotopro.com/photo-thumbs-2/A90XR3.jpg"/>
          <p:cNvPicPr/>
          <p:nvPr/>
        </p:nvPicPr>
        <p:blipFill>
          <a:blip r:embed="rId1"/>
          <a:stretch/>
        </p:blipFill>
        <p:spPr>
          <a:xfrm>
            <a:off x="5181480" y="1089000"/>
            <a:ext cx="3657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 is measured in degrees on the Celsius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ale calibrates based on the temperature of freezing water (0 degrees) to the temperature of boiling water (10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learner.org/courses/essential/physicalsci/images/s7.thermometer.jpg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metric system prefixes determine how many powers of ten a measurement is off from a ba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refixes mean different sizes in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cross all types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639720"/>
            <a:ext cx="1905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http://www.how-to-study.com/images/language-arts/common-prefixes-student.gif"/>
          <p:cNvPicPr/>
          <p:nvPr/>
        </p:nvPicPr>
        <p:blipFill>
          <a:blip r:embed="rId1"/>
          <a:stretch/>
        </p:blipFill>
        <p:spPr>
          <a:xfrm>
            <a:off x="4876920" y="2057400"/>
            <a:ext cx="389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0:20:07Z</dcterms:created>
  <dc:creator>Mike</dc:creator>
  <dc:description/>
  <dc:language>en-US</dc:language>
  <cp:lastModifiedBy>Administrator</cp:lastModifiedBy>
  <dcterms:modified xsi:type="dcterms:W3CDTF">2012-08-30T11:20:19Z</dcterms:modified>
  <cp:revision>15</cp:revision>
  <dc:subject/>
  <dc:title>Metric System</dc:title>
</cp:coreProperties>
</file>