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CE087-A694-4DD3-8236-D3593393DC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52332-C094-4293-AF91-6CBB70F31359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D0951-FF06-4C26-BFBC-F45AC4643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23D5C-85CA-424C-B6F4-4A3C7EC34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7B07A-0821-46AC-8457-9BC26727B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13522-8E50-464F-889D-954A1AEE2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B17B5-0493-4BFA-87F6-42638CA09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D62D7-1973-4F53-B357-A6ECBA235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E9A16-2B74-4DE9-BEB7-A402562D0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3FC93-0509-4C99-8EB7-8AA739FCF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724A6-37EA-4E93-84A1-029FF23F3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F2B08-5837-485B-9CC4-9D41C4C14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ADE7B-512A-4A0A-ADBE-BFC41A0B1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03F69-6DE6-4D0D-8B2E-71558A34B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6B257-4988-423B-BD75-FA24EA2150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mailto:mowdij@nhvweb.org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m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ropical Rain For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aracterized by warm temperatures and heavy rai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very diverse area that has many different species of plants and anima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st seasons are relatively the sa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http://desktopnature.com/5026-2/Tropical+Rainforest_+Lacey+Creek_+Queensland_+Australia.jpg"/>
          <p:cNvPicPr/>
          <p:nvPr/>
        </p:nvPicPr>
        <p:blipFill>
          <a:blip r:embed="rId1"/>
          <a:stretch/>
        </p:blipFill>
        <p:spPr>
          <a:xfrm>
            <a:off x="4648320" y="2070000"/>
            <a:ext cx="4147920" cy="31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2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ropical Rain For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verage rainfall =  Over 150 c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verage temp  = 20 – 30 degrees Celsiu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lant Life = Large Trees, Vines and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imal Life = Monkeys, insects, lizards, amphibia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2" descr="http://www.kbears.com/climates/rainforest.jpg"/>
          <p:cNvPicPr/>
          <p:nvPr/>
        </p:nvPicPr>
        <p:blipFill>
          <a:blip r:embed="rId1"/>
          <a:stretch/>
        </p:blipFill>
        <p:spPr>
          <a:xfrm>
            <a:off x="152280" y="1981080"/>
            <a:ext cx="4114800" cy="28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erate Grasslan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aracterized by rich fertile soil and large open plai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enerally found in the interior of contin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gh production of farmla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2" descr="http://seoeun01px2009.files.wordpress.com/2007/10/biol_02_img0210.jpg"/>
          <p:cNvPicPr/>
          <p:nvPr/>
        </p:nvPicPr>
        <p:blipFill>
          <a:blip r:embed="rId1"/>
          <a:stretch/>
        </p:blipFill>
        <p:spPr>
          <a:xfrm>
            <a:off x="4343400" y="1905120"/>
            <a:ext cx="445284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57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62" dur="5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67" dur="5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erate Grasslan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verage rainfall =  25 – 75 c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verage temp  = 0 – 25 degrees Celsiu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lant Life = Grasses, small tre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imal Life = hawks, buffalo, deer and prairie dog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2" descr="http://www.blueplanetbiomes.org/images/grasslands_lrg.jpg"/>
          <p:cNvPicPr/>
          <p:nvPr/>
        </p:nvPicPr>
        <p:blipFill>
          <a:blip r:embed="rId1"/>
          <a:stretch/>
        </p:blipFill>
        <p:spPr>
          <a:xfrm>
            <a:off x="203040" y="1752480"/>
            <a:ext cx="426744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5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500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van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aracterized by open grasslands with seasonal rainfal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y have a dry season and a wet seas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ocated in Africa, South America and Austrial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2" descr="http://biologyprojectwiki.wikispaces.com/file/view/2.jpg/104257385/2.jpg"/>
          <p:cNvPicPr/>
          <p:nvPr/>
        </p:nvPicPr>
        <p:blipFill>
          <a:blip r:embed="rId1"/>
          <a:stretch/>
        </p:blipFill>
        <p:spPr>
          <a:xfrm>
            <a:off x="5105520" y="2098800"/>
            <a:ext cx="3409920" cy="22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01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06" dur="5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11" dur="5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van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verage rainfall =  75 – 150c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verage temp  = 16 – 35 degrees Celsiu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lant Life = Tall grasses, some scattered tre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imal Life = Zebra, lions, water buffalo, elepha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2" descr="http://www.cairns.com.au/images/uploadedfiles/editorial/pictures/2008/04/09/Savannah.jpg"/>
          <p:cNvPicPr/>
          <p:nvPr/>
        </p:nvPicPr>
        <p:blipFill>
          <a:blip r:embed="rId1"/>
          <a:stretch/>
        </p:blipFill>
        <p:spPr>
          <a:xfrm>
            <a:off x="304920" y="2438280"/>
            <a:ext cx="4190760" cy="194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ser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aracterized by a lack of rainfal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uld be either hot or cold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reme environments where plants and animals have to deal with little or no water intak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2" descr="http://www.mccullagh.org/db9/1ds-4/sandstorm-sahara-desert.jpg"/>
          <p:cNvPicPr/>
          <p:nvPr/>
        </p:nvPicPr>
        <p:blipFill>
          <a:blip r:embed="rId1"/>
          <a:stretch/>
        </p:blipFill>
        <p:spPr>
          <a:xfrm>
            <a:off x="4724280" y="2819520"/>
            <a:ext cx="3943440" cy="26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10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ser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verage rainfall = Less than 25cm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verage temp  = -15 to 39 degrees Celsiu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lant Life = Plants adapted to low water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imal Life = Animals adapted to low wa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2" descr="http://www.wallpaperbase.com/wallpapers/landscape/deserts/desert_9.jpg"/>
          <p:cNvPicPr/>
          <p:nvPr/>
        </p:nvPicPr>
        <p:blipFill>
          <a:blip r:embed="rId1"/>
          <a:stretch/>
        </p:blipFill>
        <p:spPr>
          <a:xfrm>
            <a:off x="533520" y="2209680"/>
            <a:ext cx="377964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reshwater Wetlan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aracterized by land covered in fresh wa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ften referred to as marshes or swam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tes of diverse plant and animal lif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http://medent.usyd.edu.au/arbovirus/mosquit/wetland.jpg"/>
          <p:cNvPicPr/>
          <p:nvPr/>
        </p:nvPicPr>
        <p:blipFill>
          <a:blip r:embed="rId1"/>
          <a:stretch/>
        </p:blipFill>
        <p:spPr>
          <a:xfrm>
            <a:off x="4495680" y="2286000"/>
            <a:ext cx="432756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1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10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10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reshwater Wetlan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verage rainfall =  25cm – 100c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verage temp  =  10 – 30 degrees Celsiu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lant Life = Woody Plants, Reeds, Mosses, Alga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imal Life = Crocodiles, Fish, Wading Bir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2" descr="http://www.gallagherstravels.com/States/AL/story011/images/image009.jpg"/>
          <p:cNvPicPr/>
          <p:nvPr/>
        </p:nvPicPr>
        <p:blipFill>
          <a:blip r:embed="rId1"/>
          <a:stretch/>
        </p:blipFill>
        <p:spPr>
          <a:xfrm>
            <a:off x="762120" y="1382760"/>
            <a:ext cx="3124080" cy="47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tes For This Chap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se are supplemental notes that are supposed to help you study for the upcoming te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se notes will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given in cla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lease email me any questions at 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mowdij@nhvweb.or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biomes in these notes will be the only ones you will be tested 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ajor Biomes Covered In These No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2666520" y="160020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undr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ciduous Fore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iferous Fore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ropical Rain Fore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emperate Grassla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avan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ser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reshwater Wetl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undr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tundra is a cold and mostly treeless bio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t is characterized by low temperatures and permafro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ermafrost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s a layer of soil that is frozen all year rou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http://www.canada-photos.com/images/500/polar-bear-hudson-bay-tundra_4231-4129.jpg"/>
          <p:cNvPicPr/>
          <p:nvPr/>
        </p:nvPicPr>
        <p:blipFill>
          <a:blip r:embed="rId1"/>
          <a:stretch/>
        </p:blipFill>
        <p:spPr>
          <a:xfrm>
            <a:off x="4724280" y="2260440"/>
            <a:ext cx="4229280" cy="28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5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0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5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undr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verage rainfall =  Less than 25c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verage temp  = -26 to 12 degrees Celsiu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lant Life – Mosses, lichens. gras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imal Life – Polar Bears, caribou, snowshoe har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http://www.marietta.edu/~biol/biomes/images/tundra/alaskapipeline1.jpg"/>
          <p:cNvPicPr/>
          <p:nvPr/>
        </p:nvPicPr>
        <p:blipFill>
          <a:blip r:embed="rId1"/>
          <a:stretch/>
        </p:blipFill>
        <p:spPr>
          <a:xfrm>
            <a:off x="304920" y="2362320"/>
            <a:ext cx="4111560" cy="27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ciduous For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aracterized by trees that lose their leaves once every yea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common sight in Annandale, NJ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ave pronounced seasons with a cold winter and warm summ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" descr="http://depts.washington.edu/natmap/habitats/images/deciduous_forest_tk.jpg"/>
          <p:cNvPicPr/>
          <p:nvPr/>
        </p:nvPicPr>
        <p:blipFill>
          <a:blip r:embed="rId1"/>
          <a:stretch/>
        </p:blipFill>
        <p:spPr>
          <a:xfrm>
            <a:off x="4495680" y="2286000"/>
            <a:ext cx="434340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ciduous For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verage rainfall =  75 – 150c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verage temp  = -10 to 35 degrees Celsiu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lant Life = Oak, Maple, Hickory, Ash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imal Life = Bears, Wolves, Deer, Rabbi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http://t3.gstatic.com/images?q=tbn:ANd9GcTLVOjsJWwXcEWvf7UcuIONxUKSsrxANEwTsZUvBZNgwJY237oswQ&amp;t=1"/>
          <p:cNvPicPr/>
          <p:nvPr/>
        </p:nvPicPr>
        <p:blipFill>
          <a:blip r:embed="rId1"/>
          <a:stretch/>
        </p:blipFill>
        <p:spPr>
          <a:xfrm>
            <a:off x="457200" y="1523880"/>
            <a:ext cx="390384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iferous Fores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aracterized by forests that never lose their leav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st trees have adapted to the col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hort summers and long win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2" descr="http://media-2.web.britannica.com/eb-media/41/59041-004-7F34BA3A.jpg"/>
          <p:cNvPicPr/>
          <p:nvPr/>
        </p:nvPicPr>
        <p:blipFill>
          <a:blip r:embed="rId1"/>
          <a:stretch/>
        </p:blipFill>
        <p:spPr>
          <a:xfrm>
            <a:off x="4495680" y="1905120"/>
            <a:ext cx="412452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iferous Fores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verage rainfall =  30 – 75c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verage temp  = 25 to      -20 degrees Celsiu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lant Life = Fur, Spruce, Pi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imal Life = Red Fox, Snowy Owl, Moo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2" descr="http://t0.gstatic.com/images?q=tbn:ANd9GcQ9XTWaEte68euVx47ppSRJs41wbJSVEzpQsUv53nNb__oEoCk__A&amp;t=1"/>
          <p:cNvPicPr/>
          <p:nvPr/>
        </p:nvPicPr>
        <p:blipFill>
          <a:blip r:embed="rId1"/>
          <a:stretch/>
        </p:blipFill>
        <p:spPr>
          <a:xfrm>
            <a:off x="380880" y="1600200"/>
            <a:ext cx="40230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0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2T20:35:15Z</dcterms:created>
  <dc:creator>Mike</dc:creator>
  <dc:description/>
  <dc:language>en-US</dc:language>
  <cp:lastModifiedBy>Owdij, Michael</cp:lastModifiedBy>
  <dcterms:modified xsi:type="dcterms:W3CDTF">2015-03-30T16:23:23Z</dcterms:modified>
  <cp:revision>12</cp:revision>
  <dc:subject/>
  <dc:title>Chapter 21  Biomes</dc:title>
</cp:coreProperties>
</file>