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6890-3047-4597-BFA9-39822BDC9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4C49-C8A5-4251-8107-58C4D30C37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3D9-B976-48CB-B8EC-A1642C52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0E1-28E3-4C9F-9A0E-12165607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1D9-67F4-4280-8713-8632E2B4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837-1287-4301-981C-52106AA8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974-4543-40EF-8DB0-0E575B9E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527-27F9-4873-83AC-CC35BDC2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C20-E534-4149-BE5E-289414AE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519-814C-490A-A298-E84BCCA0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1D8-AB2A-4B1A-8B46-5998A1A5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6C3-4C69-493B-878C-FEDE61C5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F7E-D8F7-4430-82A8-D494C896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3D9-E0FD-40A6-AA25-0E6F6A34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E04C-8324-4AA6-969B-6AD34BDE3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owdij@nhvweb.or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Rain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warm temperatures and heavy r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ery diverse area that has many different species of plants and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seasons are relatively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desktopnature.com/5026-2/Tropical+Rainforest_+Lacey+Creek_+Queensland_+Australia.jpg"/>
          <p:cNvPicPr/>
          <p:nvPr/>
        </p:nvPicPr>
        <p:blipFill>
          <a:blip r:embed="rId1"/>
          <a:stretch/>
        </p:blipFill>
        <p:spPr>
          <a:xfrm>
            <a:off x="4648320" y="2070000"/>
            <a:ext cx="41479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Rain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Over 150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20 – 30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Large Trees, Vines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Monkeys, insects, lizards, amphib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kbears.com/climates/rainforest.jpg"/>
          <p:cNvPicPr/>
          <p:nvPr/>
        </p:nvPicPr>
        <p:blipFill>
          <a:blip r:embed="rId1"/>
          <a:stretch/>
        </p:blipFill>
        <p:spPr>
          <a:xfrm>
            <a:off x="152280" y="1981080"/>
            <a:ext cx="41148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e Grass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rich fertile soil and large open pl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 found in the interior of conti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production of farm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seoeun01px2009.files.wordpress.com/2007/10/biol_02_img0210.jpg"/>
          <p:cNvPicPr/>
          <p:nvPr/>
        </p:nvPicPr>
        <p:blipFill>
          <a:blip r:embed="rId1"/>
          <a:stretch/>
        </p:blipFill>
        <p:spPr>
          <a:xfrm>
            <a:off x="4343400" y="1905120"/>
            <a:ext cx="4452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e Grass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25 – 75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0 – 25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Grasses, small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hawks, buffalo, deer and prairie do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blueplanetbiomes.org/images/grasslands_lrg.jpg"/>
          <p:cNvPicPr/>
          <p:nvPr/>
        </p:nvPicPr>
        <p:blipFill>
          <a:blip r:embed="rId1"/>
          <a:stretch/>
        </p:blipFill>
        <p:spPr>
          <a:xfrm>
            <a:off x="203040" y="175248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an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open grasslands with seasonal rainf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ave a dry season and a wet sea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ted in Africa, South America and Austrial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biologyprojectwiki.wikispaces.com/file/view/2.jpg/104257385/2.jpg"/>
          <p:cNvPicPr/>
          <p:nvPr/>
        </p:nvPicPr>
        <p:blipFill>
          <a:blip r:embed="rId1"/>
          <a:stretch/>
        </p:blipFill>
        <p:spPr>
          <a:xfrm>
            <a:off x="5105520" y="2098800"/>
            <a:ext cx="34099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an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75 – 150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16 – 35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Tall grasses, some scattered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Zebra, lions, water buffalo, eleph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cairns.com.au/images/uploadedfiles/editorial/pictures/2008/04/09/Savannah.jpg"/>
          <p:cNvPicPr/>
          <p:nvPr/>
        </p:nvPicPr>
        <p:blipFill>
          <a:blip r:embed="rId1"/>
          <a:stretch/>
        </p:blipFill>
        <p:spPr>
          <a:xfrm>
            <a:off x="304920" y="2438280"/>
            <a:ext cx="41907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a lack of rainf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be either hot or col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eme environments where plants and animals have to deal with little or no water in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mccullagh.org/db9/1ds-4/sandstorm-sahara-desert.jpg"/>
          <p:cNvPicPr/>
          <p:nvPr/>
        </p:nvPicPr>
        <p:blipFill>
          <a:blip r:embed="rId1"/>
          <a:stretch/>
        </p:blipFill>
        <p:spPr>
          <a:xfrm>
            <a:off x="4724280" y="2819520"/>
            <a:ext cx="394344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Less than 25cm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-15 to 39 degrees Cels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Plants adapted to low wa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Animals adapted to low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wallpaperbase.com/wallpapers/landscape/deserts/desert_9.jpg"/>
          <p:cNvPicPr/>
          <p:nvPr/>
        </p:nvPicPr>
        <p:blipFill>
          <a:blip r:embed="rId1"/>
          <a:stretch/>
        </p:blipFill>
        <p:spPr>
          <a:xfrm>
            <a:off x="533520" y="2209680"/>
            <a:ext cx="3779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shwater Wetl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land covered in fresh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referred to as marshes or swam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es of diverse plant and animal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medent.usyd.edu.au/arbovirus/mosquit/wetland.jpg"/>
          <p:cNvPicPr/>
          <p:nvPr/>
        </p:nvPicPr>
        <p:blipFill>
          <a:blip r:embed="rId1"/>
          <a:stretch/>
        </p:blipFill>
        <p:spPr>
          <a:xfrm>
            <a:off x="4495680" y="2286000"/>
            <a:ext cx="4327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shwater Wetl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25cm – 100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 10 – 30 degrees Cels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Woody Plants, Reeds, Mosses, Alg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Crocodiles, Fish, Wading Bi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gallagherstravels.com/States/AL/story011/images/image009.jpg"/>
          <p:cNvPicPr/>
          <p:nvPr/>
        </p:nvPicPr>
        <p:blipFill>
          <a:blip r:embed="rId1"/>
          <a:stretch/>
        </p:blipFill>
        <p:spPr>
          <a:xfrm>
            <a:off x="762120" y="1382760"/>
            <a:ext cx="312408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s For This Chap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supplemental notes that are supposed to help you study for the upcoming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notes will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given in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email me any questions a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owdij@nhvweb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omes in these notes will be the only ones you will be tested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Biomes Covered In These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666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duous Fo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iferous Fo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opical Rain Fo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ate Grass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v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shwater Wet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undra is a cold and mostly treeless bi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characterized by low temperatures and permafr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mafros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layer of soil that is frozen all year 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canada-photos.com/images/500/polar-bear-hudson-bay-tundra_4231-4129.jpg"/>
          <p:cNvPicPr/>
          <p:nvPr/>
        </p:nvPicPr>
        <p:blipFill>
          <a:blip r:embed="rId1"/>
          <a:stretch/>
        </p:blipFill>
        <p:spPr>
          <a:xfrm>
            <a:off x="4724280" y="2260440"/>
            <a:ext cx="4229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Less than 25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-26 to 12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– Mosses, lichens. gr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– Polar Bears, caribou, snowshoe h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marietta.edu/~biol/biomes/images/tundra/alaskapipeline1.jpg"/>
          <p:cNvPicPr/>
          <p:nvPr/>
        </p:nvPicPr>
        <p:blipFill>
          <a:blip r:embed="rId1"/>
          <a:stretch/>
        </p:blipFill>
        <p:spPr>
          <a:xfrm>
            <a:off x="304920" y="2362320"/>
            <a:ext cx="411156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duous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trees that lose their leaves once every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on sight in Annandale, N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pronounced seasons with a cold winter and warm sum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depts.washington.edu/natmap/habitats/images/deciduous_forest_tk.jpg"/>
          <p:cNvPicPr/>
          <p:nvPr/>
        </p:nvPicPr>
        <p:blipFill>
          <a:blip r:embed="rId1"/>
          <a:stretch/>
        </p:blipFill>
        <p:spPr>
          <a:xfrm>
            <a:off x="4495680" y="22860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duous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75 – 150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-10 to 35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Oak, Maple, Hickory, As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Bears, Wolves, Deer, Rab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t3.gstatic.com/images?q=tbn:ANd9GcTLVOjsJWwXcEWvf7UcuIONxUKSsrxANEwTsZUvBZNgwJY237oswQ&amp;t=1"/>
          <p:cNvPicPr/>
          <p:nvPr/>
        </p:nvPicPr>
        <p:blipFill>
          <a:blip r:embed="rId1"/>
          <a:stretch/>
        </p:blipFill>
        <p:spPr>
          <a:xfrm>
            <a:off x="457200" y="1523880"/>
            <a:ext cx="3903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iferous For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forests that never lose their le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trees have adapted to the c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summers and long wi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media-2.web.britannica.com/eb-media/41/59041-004-7F34BA3A.jpg"/>
          <p:cNvPicPr/>
          <p:nvPr/>
        </p:nvPicPr>
        <p:blipFill>
          <a:blip r:embed="rId1"/>
          <a:stretch/>
        </p:blipFill>
        <p:spPr>
          <a:xfrm>
            <a:off x="4495680" y="1905120"/>
            <a:ext cx="41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iferous For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30 – 75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25 to      -20 degrees Cels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Fur, Spruce, 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Red Fox, Snowy Owl, Mo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t0.gstatic.com/images?q=tbn:ANd9GcQ9XTWaEte68euVx47ppSRJs41wbJSVEzpQsUv53nNb__oEoCk__A&amp;t=1"/>
          <p:cNvPicPr/>
          <p:nvPr/>
        </p:nvPicPr>
        <p:blipFill>
          <a:blip r:embed="rId1"/>
          <a:stretch/>
        </p:blipFill>
        <p:spPr>
          <a:xfrm>
            <a:off x="380880" y="1600200"/>
            <a:ext cx="402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20:35:15Z</dcterms:created>
  <dc:creator>Mike</dc:creator>
  <dc:description/>
  <dc:language>en-US</dc:language>
  <cp:lastModifiedBy>Owdij, Michael</cp:lastModifiedBy>
  <dcterms:modified xsi:type="dcterms:W3CDTF">2015-03-30T16:23:23Z</dcterms:modified>
  <cp:revision>12</cp:revision>
  <dc:subject/>
  <dc:title>Chapter 21  Biomes</dc:title>
</cp:coreProperties>
</file>