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4E88-DDD8-43EA-80AE-D07EF29C3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C26A-EB71-4C06-928D-2FBEF641B3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A70-6A17-4896-B012-3E70E380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917-8681-4B0A-B999-C51B4D6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B57-69D3-4F9D-9E78-2796A649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6B6-7696-4049-B738-DB48960D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5B1-035A-4C82-A718-5C680B5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2B8-C217-4607-838B-D30FF4F7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5FD-34E5-4F18-BBC7-6BB29257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AD9-D124-4A3B-811D-76F1D917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3D0-7501-42C2-8904-DDDC67A6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4D6-30B5-4642-A1C6-5661F206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C7B-CA77-4A90-B31F-9CFECB8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F7C-5DB3-4CF6-A880-AD0B033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4A94-C3CB-4020-BE8C-A35DCC282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owdij@nhvweb.or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warm temperatures and heavy r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ery diverse area that has many different species of plants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easons are relatively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desktopnature.com/5026-2/Tropical+Rainforest_+Lacey+Creek_+Queensland_+Australia.jpg"/>
          <p:cNvPicPr/>
          <p:nvPr/>
        </p:nvPicPr>
        <p:blipFill>
          <a:blip r:embed="rId1"/>
          <a:stretch/>
        </p:blipFill>
        <p:spPr>
          <a:xfrm>
            <a:off x="4648320" y="2070000"/>
            <a:ext cx="4147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Over 15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0 – 30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Large Trees, Vine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Monkeys, insects, lizards, amphib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kbears.com/climates/rainforest.jpg"/>
          <p:cNvPicPr/>
          <p:nvPr/>
        </p:nvPicPr>
        <p:blipFill>
          <a:blip r:embed="rId1"/>
          <a:stretch/>
        </p:blipFill>
        <p:spPr>
          <a:xfrm>
            <a:off x="152280" y="1981080"/>
            <a:ext cx="41148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rich fertile soil and large open pl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found in the interior of conti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oduction of farm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seoeun01px2009.files.wordpress.com/2007/10/biol_02_img0210.jpg"/>
          <p:cNvPicPr/>
          <p:nvPr/>
        </p:nvPicPr>
        <p:blipFill>
          <a:blip r:embed="rId1"/>
          <a:stretch/>
        </p:blipFill>
        <p:spPr>
          <a:xfrm>
            <a:off x="4343400" y="1905120"/>
            <a:ext cx="4452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 – 75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0 – 2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Grasses, small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hawks, buffalo, deer and prairie d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blueplanetbiomes.org/images/grasslands_lrg.jpg"/>
          <p:cNvPicPr/>
          <p:nvPr/>
        </p:nvPicPr>
        <p:blipFill>
          <a:blip r:embed="rId1"/>
          <a:stretch/>
        </p:blipFill>
        <p:spPr>
          <a:xfrm>
            <a:off x="203040" y="17524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open grasslands with seasonal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a dry season and a wet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in Africa, South America and Austria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biologyprojectwiki.wikispaces.com/file/view/2.jpg/104257385/2.jpg"/>
          <p:cNvPicPr/>
          <p:nvPr/>
        </p:nvPicPr>
        <p:blipFill>
          <a:blip r:embed="rId1"/>
          <a:stretch/>
        </p:blipFill>
        <p:spPr>
          <a:xfrm>
            <a:off x="5105520" y="2098800"/>
            <a:ext cx="3409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16 –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Tall grasses, some scattered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Zebra, lions, water buffalo, eleph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cairns.com.au/images/uploadedfiles/editorial/pictures/2008/04/09/Savannah.jpg"/>
          <p:cNvPicPr/>
          <p:nvPr/>
        </p:nvPicPr>
        <p:blipFill>
          <a:blip r:embed="rId1"/>
          <a:stretch/>
        </p:blipFill>
        <p:spPr>
          <a:xfrm>
            <a:off x="304920" y="2438280"/>
            <a:ext cx="41907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a lack of rain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be either hot or col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environments where plants and animals have to deal with little or no water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mccullagh.org/db9/1ds-4/sandstorm-sahara-desert.jpg"/>
          <p:cNvPicPr/>
          <p:nvPr/>
        </p:nvPicPr>
        <p:blipFill>
          <a:blip r:embed="rId1"/>
          <a:stretch/>
        </p:blipFill>
        <p:spPr>
          <a:xfrm>
            <a:off x="4724280" y="2819520"/>
            <a:ext cx="39434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Less than 25c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5 to 39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Plants adapted to low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Animals adapted to low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wallpaperbase.com/wallpapers/landscape/deserts/desert_9.jpg"/>
          <p:cNvPicPr/>
          <p:nvPr/>
        </p:nvPicPr>
        <p:blipFill>
          <a:blip r:embed="rId1"/>
          <a:stretch/>
        </p:blipFill>
        <p:spPr>
          <a:xfrm>
            <a:off x="533520" y="2209680"/>
            <a:ext cx="377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land covered in fresh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referred to as marshes or sw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of diverse plant and animal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medent.usyd.edu.au/arbovirus/mosquit/wetland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27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25cm – 10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 10 – 3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Woody Plants, Reeds, Mosses, Alg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Crocodiles, Fish, Wading Bi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gallagherstravels.com/States/AL/story011/images/image009.jpg"/>
          <p:cNvPicPr/>
          <p:nvPr/>
        </p:nvPicPr>
        <p:blipFill>
          <a:blip r:embed="rId1"/>
          <a:stretch/>
        </p:blipFill>
        <p:spPr>
          <a:xfrm>
            <a:off x="762120" y="1382760"/>
            <a:ext cx="3124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For This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supplemental notes that are supposed to help you study for the upcoming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otes wil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given i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me any questions 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owdij@nhvweb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mes in these notes will be the only ones you will be test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Biomes Covered In These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66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iferous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e Grass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water Wet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ndra is a cold and mostly treeless bi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haracterized by low temperatures and permafr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fro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ayer of soil that is frozen all year 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anada-photos.com/images/500/polar-bear-hudson-bay-tundra_4231-4129.jpg"/>
          <p:cNvPicPr/>
          <p:nvPr/>
        </p:nvPicPr>
        <p:blipFill>
          <a:blip r:embed="rId1"/>
          <a:stretch/>
        </p:blipFill>
        <p:spPr>
          <a:xfrm>
            <a:off x="4724280" y="2260440"/>
            <a:ext cx="4229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Less than 2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26 to 12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– Mosses, lichens. gr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– Polar Bears, caribou, snowshoe h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marietta.edu/~biol/biomes/images/tundra/alaskapipeline1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156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trees that lose their leaves once every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sight in Annandale, N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pronounced seasons with a cold winter and warm sum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depts.washington.edu/natmap/habitats/images/deciduous_forest_tk.jpg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75 – 150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-10 to 35 degrees Cels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Oak, Maple, Hickory, A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Bears, Wolves, Deer, Rab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3.gstatic.com/images?q=tbn:ANd9GcTLVOjsJWwXcEWvf7UcuIONxUKSsrxANEwTsZUvBZNgwJY237oswQ&amp;t=1"/>
          <p:cNvPicPr/>
          <p:nvPr/>
        </p:nvPicPr>
        <p:blipFill>
          <a:blip r:embed="rId1"/>
          <a:stretch/>
        </p:blipFill>
        <p:spPr>
          <a:xfrm>
            <a:off x="457200" y="1523880"/>
            <a:ext cx="390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forests that never lose their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trees have adapted to the c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ummers and long wi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media-2.web.britannica.com/eb-media/41/59041-004-7F34BA3A.jpg"/>
          <p:cNvPicPr/>
          <p:nvPr/>
        </p:nvPicPr>
        <p:blipFill>
          <a:blip r:embed="rId1"/>
          <a:stretch/>
        </p:blipFill>
        <p:spPr>
          <a:xfrm>
            <a:off x="4495680" y="1905120"/>
            <a:ext cx="41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ous Fo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ainfall =  30 – 75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temp  = 25 to      -20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Life = Fur, Spruce, 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 Life = Red Fox, Snowy Owl, Mo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0.gstatic.com/images?q=tbn:ANd9GcQ9XTWaEte68euVx47ppSRJs41wbJSVEzpQsUv53nNb__oEoCk__A&amp;t=1"/>
          <p:cNvPicPr/>
          <p:nvPr/>
        </p:nvPicPr>
        <p:blipFill>
          <a:blip r:embed="rId1"/>
          <a:stretch/>
        </p:blipFill>
        <p:spPr>
          <a:xfrm>
            <a:off x="380880" y="1600200"/>
            <a:ext cx="402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0:35:15Z</dcterms:created>
  <dc:creator>Mike</dc:creator>
  <dc:description/>
  <dc:language>en-US</dc:language>
  <cp:lastModifiedBy>Owdij, Michael</cp:lastModifiedBy>
  <dcterms:modified xsi:type="dcterms:W3CDTF">2015-03-30T16:23:23Z</dcterms:modified>
  <cp:revision>12</cp:revision>
  <dc:subject/>
  <dc:title>Chapter 21  Biomes</dc:title>
</cp:coreProperties>
</file>