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603-CD45-4380-AD51-A8E61475A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C03-07D5-48CC-A6F4-169D988BC3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3B9-426B-4AB3-A056-E69C9001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086-2B2E-4F06-BD43-A6A9659E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80F-BFBC-4C3B-8C1C-BDC18528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53A-4367-43EC-8C0F-FDAF7BA6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3C9-45CC-4F69-8E72-848CE88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E65-B318-4A94-B58A-C21B3B24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600-ADD4-4420-98A9-A34EDBA0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F20-6C3A-4B8E-A444-D13EC110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546-B16A-49F3-94AC-F3F204DB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BC2-E6F1-4C2B-9025-29FA0A4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574-D785-4FF5-9F5E-43472EB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AC7-DF60-4DF5-9C2F-1C6F636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BE9A-5486-4724-B292-E1D9579EF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owdij@nhvweb.or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warm temperatures and heavy r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diverse area that has many different species of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easons are relativel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desktopnature.com/5026-2/Tropical+Rainforest_+Lacey+Creek_+Queensland_+Australia.jpg"/>
          <p:cNvPicPr/>
          <p:nvPr/>
        </p:nvPicPr>
        <p:blipFill>
          <a:blip r:embed="rId1"/>
          <a:stretch/>
        </p:blipFill>
        <p:spPr>
          <a:xfrm>
            <a:off x="4648320" y="2070000"/>
            <a:ext cx="4147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Over 15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0 – 30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Large Trees, Vine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Monkeys, insects, lizards, amphib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kbears.com/climates/rainforest.jpg"/>
          <p:cNvPicPr/>
          <p:nvPr/>
        </p:nvPicPr>
        <p:blipFill>
          <a:blip r:embed="rId1"/>
          <a:stretch/>
        </p:blipFill>
        <p:spPr>
          <a:xfrm>
            <a:off x="152280" y="1981080"/>
            <a:ext cx="41148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rich fertile soil and large ope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found in the interior of conti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oduction of farm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eoeun01px2009.files.wordpress.com/2007/10/biol_02_img0210.jpg"/>
          <p:cNvPicPr/>
          <p:nvPr/>
        </p:nvPicPr>
        <p:blipFill>
          <a:blip r:embed="rId1"/>
          <a:stretch/>
        </p:blipFill>
        <p:spPr>
          <a:xfrm>
            <a:off x="4343400" y="1905120"/>
            <a:ext cx="4452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 – 75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0 – 2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Grasses, small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hawks, buffalo, deer and prairie d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blueplanetbiomes.org/images/grasslands_lrg.jpg"/>
          <p:cNvPicPr/>
          <p:nvPr/>
        </p:nvPicPr>
        <p:blipFill>
          <a:blip r:embed="rId1"/>
          <a:stretch/>
        </p:blipFill>
        <p:spPr>
          <a:xfrm>
            <a:off x="203040" y="17524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open grasslands with seasonal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ry season and a wet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in Africa, South America and Austri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biologyprojectwiki.wikispaces.com/file/view/2.jpg/104257385/2.jpg"/>
          <p:cNvPicPr/>
          <p:nvPr/>
        </p:nvPicPr>
        <p:blipFill>
          <a:blip r:embed="rId1"/>
          <a:stretch/>
        </p:blipFill>
        <p:spPr>
          <a:xfrm>
            <a:off x="5105520" y="2098800"/>
            <a:ext cx="3409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16 –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Tall grasses, some scattered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Zebra, lions, water buffalo, eleph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cairns.com.au/images/uploadedfiles/editorial/pictures/2008/04/09/Savannah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lack of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be either hot or co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environments where plants and animals have to deal with little or no water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mccullagh.org/db9/1ds-4/sandstorm-sahara-desert.jpg"/>
          <p:cNvPicPr/>
          <p:nvPr/>
        </p:nvPicPr>
        <p:blipFill>
          <a:blip r:embed="rId1"/>
          <a:stretch/>
        </p:blipFill>
        <p:spPr>
          <a:xfrm>
            <a:off x="4724280" y="281952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Less than 25c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5 to 39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Plants adapted to low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Animals adapted to low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wallpaperbase.com/wallpapers/landscape/deserts/desert_9.jpg"/>
          <p:cNvPicPr/>
          <p:nvPr/>
        </p:nvPicPr>
        <p:blipFill>
          <a:blip r:embed="rId1"/>
          <a:stretch/>
        </p:blipFill>
        <p:spPr>
          <a:xfrm>
            <a:off x="533520" y="2209680"/>
            <a:ext cx="377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land covered in fresh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ferred to as marshes or 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of diverse plant and animal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medent.usyd.edu.au/arbovirus/mosquit/wetland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2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cm – 10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 10 – 3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Woody Plants, Reeds, Mosses, Alg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Crocodiles, Fish, Wading 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gallagherstravels.com/States/AL/story011/images/image009.jpg"/>
          <p:cNvPicPr/>
          <p:nvPr/>
        </p:nvPicPr>
        <p:blipFill>
          <a:blip r:embed="rId1"/>
          <a:stretch/>
        </p:blipFill>
        <p:spPr>
          <a:xfrm>
            <a:off x="762120" y="1382760"/>
            <a:ext cx="3124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supplemental notes that are supposed to help you study for the upcoming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otes wil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given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me any questions 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wdij@nhvweb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mes in these notes will be the only ones you will be test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iomes Covered In These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6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ifer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ndra is a cold and mostly treeless bi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low temperatures and permafr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fro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ayer of soil that is frozen all year 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anada-photos.com/images/500/polar-bear-hudson-bay-tundra_4231-4129.jpg"/>
          <p:cNvPicPr/>
          <p:nvPr/>
        </p:nvPicPr>
        <p:blipFill>
          <a:blip r:embed="rId1"/>
          <a:stretch/>
        </p:blipFill>
        <p:spPr>
          <a:xfrm>
            <a:off x="4724280" y="2260440"/>
            <a:ext cx="4229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Less than 2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26 to 12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– Mosses, lichens. gr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– Polar Bears, caribou, snowshoe h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marietta.edu/~biol/biomes/images/tundra/alaskapipeline1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15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trees that lose their leaves once every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sight in Annandale,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pronounced seasons with a cold winter and warm sum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depts.washington.edu/natmap/habitats/images/deciduous_forest_tk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0 to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Oak, Maple, Hickory, A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Bears, Wolves, Deer,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3.gstatic.com/images?q=tbn:ANd9GcTLVOjsJWwXcEWvf7UcuIONxUKSsrxANEwTsZUvBZNgwJY237oswQ&amp;t=1"/>
          <p:cNvPicPr/>
          <p:nvPr/>
        </p:nvPicPr>
        <p:blipFill>
          <a:blip r:embed="rId1"/>
          <a:stretch/>
        </p:blipFill>
        <p:spPr>
          <a:xfrm>
            <a:off x="457200" y="1523880"/>
            <a:ext cx="390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forests that never lose their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trees have adapted to the c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ummers and long wi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media-2.web.britannica.com/eb-media/41/59041-004-7F34BA3A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30 – 7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5 to      -2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Fur, Spruce, 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Red Fox, Snowy Owl,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0.gstatic.com/images?q=tbn:ANd9GcQ9XTWaEte68euVx47ppSRJs41wbJSVEzpQsUv53nNb__oEoCk__A&amp;t=1"/>
          <p:cNvPicPr/>
          <p:nvPr/>
        </p:nvPicPr>
        <p:blipFill>
          <a:blip r:embed="rId1"/>
          <a:stretch/>
        </p:blipFill>
        <p:spPr>
          <a:xfrm>
            <a:off x="380880" y="1600200"/>
            <a:ext cx="402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0:35:15Z</dcterms:created>
  <dc:creator>Mike</dc:creator>
  <dc:description/>
  <dc:language>en-US</dc:language>
  <cp:lastModifiedBy>Owdij, Michael</cp:lastModifiedBy>
  <dcterms:modified xsi:type="dcterms:W3CDTF">2015-03-30T16:23:23Z</dcterms:modified>
  <cp:revision>12</cp:revision>
  <dc:subject/>
  <dc:title>Chapter 21  Biomes</dc:title>
</cp:coreProperties>
</file>