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74DD-B1FA-4DD5-B2A2-74B443DCF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E0B5-CC26-4FF5-85E3-6E095AFD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B7EA62E-AB94-4453-BC0A-1C6EFFD21C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A26237F-9D62-48C8-9C2F-1E213E22DE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0880D9-8275-4BF8-804B-9DE1C0CEF3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A8ACB94-E656-425D-9A09-DF4B6B6F1B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D889C2D-9B17-4BFD-A9DD-909FDA098C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11BBC0-B087-4287-A0CC-2A722BAC38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199181C-812C-43E5-99D9-C1BF92B1DC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C541112-6275-4BDA-A01B-8D46DB2AE14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EBD93A7-FFCB-42DE-B47C-37CA44753F2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7FBD7BC-6673-4BC5-9ADE-78EB1F989B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1A81A-7888-468A-8F35-10B7A0D91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AFCA8CF-6D7A-4DCE-85FF-1777CAD1BC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00F5A8-BD58-4396-9993-28E0ED6CF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7276C12-D2D9-45FF-8F6D-1128A8D41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F647367-D9F6-495C-83F3-2E8B5E9AB1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03C3C1-B074-440B-85AC-C2DF086017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CE8026-42B9-4725-90FC-90015C258C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D41F54-A5FF-4839-B1BE-64E7719DEB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857F9C-8E3F-408E-A8BC-A4E17E6215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9BCAF6E-2FD9-4754-A786-6AEFEB50D9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378B4C5-CD1A-4C42-955C-B8A1DC4197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ED255-73C5-48DB-BF26-5FEB30EE0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39D0CE3-5038-4A5A-9E5B-E9BEDF9D7B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E8790B-D1B6-4A1C-A01B-23FAFDE03B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845EDF-D7A5-45CF-BF9F-61923FBF9A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E0F297-287D-4270-A1B9-D084207769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FC8BC5-60F8-4AD5-9E17-5451C79481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D568B5-A32A-4766-AA8E-40CA7480D7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442E6E-1325-41DF-8758-2B4C325474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D1F85D-32A7-4041-ADF4-7E72E818B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6B1136-1DE7-41A1-B2A1-848084BFD1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B5340-0C00-46B6-8ED6-23DA000095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B32F4-B39C-46A5-B41D-7EC1A1835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507EB6-9D43-4A3D-B848-96AAC4EC20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7A367C-F297-47DF-8D45-9A622A2F5E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C2766B-028D-4F22-B038-734CB64E9B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16E5B10-B5E3-43A5-B7A3-5267387616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0A28EDB-8581-4554-9D12-D1EBBBF7E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569D9D8-B627-4974-B197-BDD30CB7C5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23B3D5-A345-43AE-8A42-2827E50F01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5F673D-80D5-416A-AB1B-99627A184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8FEAE48-3923-4BA8-A3FD-4A9348B63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033DA7-C5C8-4372-8D09-698B2BAD9B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56453-5E38-4279-90A6-0D51F67E5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56CFC3-2AB0-4E12-B2EA-A33ADF795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F951A0-6D31-4916-B8B1-B90CB0F7FF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FC6FC8E-5998-409F-AC72-16F2B1B4FA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8DE8118-5F47-48EC-B531-38A948AB2A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B11A43B-53E4-4291-ACBB-4C0DE42568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D0434-1E90-49AA-9709-042A28717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02FAD-647B-413C-925A-807E74314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BC80A-462B-4F73-BCC2-915C0053C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D1CFA-E24C-4C21-A003-B231F895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4088D-C070-4362-B325-5765EE982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E745-B646-4094-8294-468A2CAF4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B25E9-1215-421C-881B-6DE9E634A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69BDF-3EE5-46C8-85E9-B5084B33C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EABA5-3E28-4967-B2E5-C8FD48CCB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55929-B39D-4F35-98E5-DADE85BB2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D90A5-666E-401A-8A1D-6DC294DF8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EF42DD-ABC0-4C87-8162-AE5A0F1E88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5C72B-2A72-47B5-9259-369F0CC7D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1BCC1-1BF3-4F7A-9AB3-58F4F6E3C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F0E36-987B-4486-B3A1-D3E12F77C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D6345-3B45-4083-A79A-33AF4D455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43CF4-543D-4C03-8ED8-76BB5A43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684258-05F8-417C-BC77-99C01A174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DF5C6-4F1A-41A6-AEA3-5DFFA47DF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5BED8-8AC5-4543-B472-E77EF4DE9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B10E8-D53C-4E6F-AAD8-9429D7080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AF9FA-EA8F-428A-BAA0-70A809DC3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5ACB92-A524-4225-8EEE-30EFEC01C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57935-554C-4CA4-9A5C-D7F4EEDA6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253A36-1D20-4BC0-9035-7CA28DB838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15A59E5-4FE5-4E38-86B6-081A317767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0E2BA9-A05A-4254-A266-65AB264BB5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1F685-6B3E-4A78-890D-998065FE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25286A2-DAFC-4E36-9C70-A8B792DA44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758313-FEAF-4019-B1AA-207EDA5935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B7FCCA9-9FCF-4CC8-8289-E8A73D4205A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936FF0-2274-4064-9A81-B05081FC50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BDDD53-5F92-4656-8ED6-1D86E0D2E8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F2A45FD-9EE1-47DB-A4C1-13F7987133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0A05451-4A55-451F-BDB6-4C7A68B2BC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A94AFBB-FD90-48DD-B0CE-C278166803B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869C185-626F-43F6-BDE8-E68699CFCB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3D36DC-E5E0-4E29-8B22-BB4A62D5E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685B-27A9-4ABA-BD1C-497BE9F57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930E5-D4F3-4441-8ABE-08AB2127C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B2547-6DFE-4C1F-AB2D-33649A7FE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8B735-B7DE-4253-B7EE-2F626A307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77F3F-A77F-439D-B6CC-3609445B6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75C6B-CFC5-4E9E-BAB2-52652576D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06CDE-2DE6-40E3-8203-C8E492339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E4534-A08D-43CF-9CA9-F7535478C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59CE1-68CD-4BD2-9D54-D6FE4E337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8420B-4BF7-4142-8D37-DA231D0504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E9F15-75B6-4B54-A94E-76E3173EA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55AE-9AF7-48F9-A38D-2894D21F3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FB16B-0B62-432F-A5E8-C3C0F0F73D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FD36E7-7BB9-43C1-8A8C-4C805E7582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9E79C-9D23-4A51-92B8-79F87BFA4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F7E8B-0C6C-446E-ABEA-4C4DAFD75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A9B02-3A65-4A0A-B9E0-091A0F637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D792A-F83C-4047-936E-CE38A3685D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2E635-C920-4129-B831-7FEAE9CFB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94346-95F7-4DC5-8A80-93F06BD90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FD276-F455-4AC2-894D-B5F3BA663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5A4DB-46C0-43B8-95CE-1C05AD2E3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E255B-B894-4988-A20C-E5D7DA4E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5CAE6-7A78-400A-B831-7E8A761EF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F5CC70-8816-4314-811C-C9D35F0FBC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2D89F-049B-4CFD-9DD6-033A328371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72C16-62F6-46A5-94E4-570A8318D7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B2F8A-4D6E-424F-BAC4-2137FDD77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1CBE8C-2936-4005-AFFB-FDD1C05C0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D3189-4C15-4DFD-B7BE-235AAC2E3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35D64-1A67-4A5D-A409-5A140B9AD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51E8C-4652-4BD7-814D-AEC5035B4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F7AF4-C2EB-441D-A2C3-94D300DAB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B261-333A-41B3-95EB-741F6F694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CBDD1-82F3-469A-9D50-8CC1F8038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618D8-C2AB-42B2-A423-DC8836E6E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B6924-3870-4A8F-B34F-C5E5284C8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D66F13-9F7F-4669-9ADE-04EF846919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852A8-C25F-4802-AEAE-72FE47AD9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19C30-27FB-4DCB-9526-DDF11F9F31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9ECFA-99B4-411E-8DE1-4866D44F2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94F26-E465-4E4C-8512-26337D61E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10AD9-E7F5-4983-AFB5-E38E263FB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47AE6-0685-4A58-B49B-5ED0A878D7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DB53-25B9-4349-9B68-C154F8A4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F7EB5-F294-4257-8D04-B20D3C927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91729-6DBD-4516-BDD6-E18CB81CE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FCB8D-FA24-4D7C-BB85-CD6FABE1C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30996-5101-463A-AD6D-A7A941CE0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F242B-0F8F-46B8-A633-8A50CF2A2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4ABF60-24B1-44A7-82F0-C884B27E8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C75F1-BD1E-4047-A3E6-C7CCC8A7B3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7D9A759-3461-491A-BC3B-DA9A2CA6BE5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47E1B91-4923-4EF3-847F-EF809263F0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B0B52C7-24C5-450D-898C-CB45CD6E9C8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1D01-324C-42A0-A8BC-C18D0289501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F0F9-D677-4022-BF69-4F2A5D6B670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FF3F-38CF-4F2E-AF9F-2D47F29D5D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81B8-C93A-4CC9-9890-3884CE32FBA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DF0C-F48E-417D-9150-12535654509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DBE9-3010-4CCD-B7CD-1D933D4DD79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9269-0716-4FF7-B104-10C2CA87355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8F54-0DF3-4A93-9EC4-36219D3F73B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C898-4F43-4ED1-8CEE-0D8805684E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8FE2-4CA1-4278-BC54-9093A17291F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E651-9CED-4E1C-A5C9-C2ACE3B08F7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527F-75A0-4DA4-B2D7-72DD722377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5"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27"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Ink 1" descr=""/>
          <p:cNvPicPr/>
          <p:nvPr/>
        </p:nvPicPr>
        <p:blipFill>
          <a:blip r:embed="rId1"/>
          <a:stretch/>
        </p:blipFill>
        <p:spPr>
          <a:xfrm>
            <a:off x="1704960" y="4794120"/>
            <a:ext cx="6913440" cy="14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19"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1"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3"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4-11-17T18:15:39Z</dcterms:modified>
  <cp:revision>7</cp:revision>
  <dc:subject/>
  <dc:title>Onion Root Mitosis</dc:title>
</cp:coreProperties>
</file>