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5EE0C-176D-4089-A6BF-886154589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98966-B771-4D5C-AB20-E30BADECA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300AD5B-21E8-47C4-83F8-CBC276224AA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1F61363-CE1C-42E6-89BD-E3F59F976C0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5A00878-53B4-40F8-BE2B-85BFFCEA2F3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D341B64-727C-4D5E-A8E9-32B8302D290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B2C5C7B-C467-4329-A646-B410FD0EA70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FBBEE34-840A-49D6-B4A5-F328754D339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85C3B63-6175-485C-AB71-B41C376F8EF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38506A7-4856-4684-9ED2-4009D24D1B8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2617D4B-025E-4F80-A6B9-9484FBE09E0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C0246AC-6D55-401C-8076-8EBF6E22AC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44F84-1795-4DE2-8E61-3BC25A932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983674E-C31C-469A-A3D0-CE6F613322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792B01D-1467-4C73-9246-5003E5C446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437A639-6280-4A45-9318-F407585DB4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70168BD-B4EE-4FBE-BF15-24410A0F4F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CF05BAA-4878-42F6-9263-F903810171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172D276-A9D5-44FB-86DE-79BC823C42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99FD3D6-BADD-4495-9AC8-819311316B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634565A-FB43-4141-94E2-D7BA05F57D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C617AFB-DF57-467A-BB62-3428E62551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8C3BB43-D28E-4886-810B-1F27AEDAB0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E28E3-6A55-45E3-8524-F5A0F94BD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2C409C3-2653-4EE9-BA8D-C1FAB58D88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D42F5B-4290-4F05-A5DB-3BDE25B537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9BC11B-FED7-4237-9942-A497FFE401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CDA9C8-5211-46E2-9175-B9E4ECCA5A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EDA156-E8AD-43FB-ADD6-DD3841E22D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962929-D518-4343-BA17-91A09F2509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F81829-CD82-4E14-BFF5-72D738603C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7D8641-5A1C-4BB6-808D-749558D217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1C2332-1885-4EB6-908B-A47AF0CD48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080FA2-2769-49C5-8573-E10D181BBE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51C92-220F-453C-BDC6-9E223FAE3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5C0400-FD88-45DA-AFBE-4C9BB374BC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2DA3FDA-137A-4F76-86F6-8845FE7291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3D21CE-E004-4B3D-BBA3-F30BC2D82BE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B981BFB-51F1-4092-98C1-637F4B80A5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10A580B-5635-4605-8CBE-C4809565A3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60A8B30-FB6F-4525-941B-3AD472B5A3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020A810-0A18-4E0E-B82D-C94CE16BA2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38EA8AF-315A-4BFF-9B78-87A4A81A75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E54F0B9-E9A2-4CAF-B6E6-57622FA6C1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086AACD-A298-477B-A07C-84D7689034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58469-1CF4-4429-AC0D-4F68EE36A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CD05803-18D2-4A86-A9C6-E7E8175E89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C06112F-C703-4009-B714-DE782AC97B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AE2350B-92DB-46EA-B6C2-9DE8438A75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9747DC6-5352-41EC-8387-EEE21E4F46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A450593-0670-4198-B920-3666F23300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18826-F167-49C9-AB3F-A4D9F4D9D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3A5B0-4C8E-43F6-B6AE-EA25E8BFD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08A08-629F-4CEA-BACD-27D9A0BB3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3EE98-6CE3-48B6-AA0B-DC06A3B5F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0984B-4957-4206-87F3-233C85581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D176E-EE38-4D7F-9CB4-837461E62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5642D-0A54-48C4-83A6-FEA8F7FC9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7EA71-DBFD-4B27-930F-205C07F1E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4C6A5-6C7C-44AE-B008-12B512E5E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F597A-574A-44E9-9CC6-DAFA96D51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5F62E-E4F3-4A7A-8653-DDAC15DD1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663A4B-7A81-4E13-902F-202E21DC3B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2E282-B919-4C40-A106-ED3624B3F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626238-4FB4-4005-945F-45ADEF91C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75DBB-B7B3-4DB0-B6F2-6E96D98A2C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FE094-8CB2-453A-850D-9C3B1D7A0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7A025-1DBD-4D8C-941C-CC334C335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D86359-770C-449C-B6D2-0C62579A7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DD3A4-81C1-4B58-B470-595DCCCAF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487D4-D306-4FF5-8A74-41049C788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F8479A-7FB0-4D1C-BBC2-33C4A656B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7E2163-5E58-4FA4-9CA1-2CD0F8377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5BB2EE-D6A8-4784-AF00-B436DCF856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C2F0E2-5FAC-4F9E-95E8-2AF018C6DB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8012DB2-B03B-44B1-902B-C0A0CA75987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F562D66-8715-4F3A-9532-DD2E22FEB6E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296BC58-B1D6-464B-802D-CC794ECF3E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CA501-94D1-4C51-B036-B9EC8DF84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F675529-CAD2-41C9-8F32-68550CD1B1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CB825BD-A96A-4C17-9EE5-BB6E4227FB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A25EB33-7BF8-47A2-86EF-3BADA9B8E65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D690D2A-FA55-422B-B527-EC84377FEB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879E8C0-8294-414D-B46D-354F2AB266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CF6441D-49B8-455D-B3FB-EB8DCDA5AA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A1DC1CA-295B-48A1-B813-164E7B5792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3004E83-C77F-4510-A711-9521EE3CED4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811DF8D-6B1A-4E18-BA0C-0F92C9838BF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BEA3DF-A37A-440C-B341-A45D46CE22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76D55-822D-44ED-B34F-514816952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201B1A-5429-4558-9DC9-04CE54DB87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48A4DE-55B1-4B03-831D-22C573367D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7A786A-29DA-4E5C-8843-91320C077B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906116-7EEA-44BA-94B1-D131BB3B4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10E03B-A766-4EF8-831A-9C4995DC5F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DCFA6-3290-4649-BD44-6DCF476B3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B99C3-8078-4FAB-AE10-55F110BCC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D5622-6AA6-41F6-8FB2-E00CA0AB2B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AD97F1-AFFE-4AD8-B265-9D50A84109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E1D5E3-E356-4864-BE21-EB0EBD1B68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49CFB-FE25-4BBA-90F8-8D44AFBD7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52C0C9-0033-47E6-8463-DCB37EC94C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52346B-9DB6-4B0C-B6CC-55F530C787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404B99-E7DA-4CD5-920D-2DABE1BC46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8953E1-62EB-44CF-86F2-5BD86CE02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10670A-8B9A-4ABD-9BB5-8B32F6881C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7E8933-104C-4191-8251-48AC257F53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5F78A0-1ACC-44D5-8856-38F44D1824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EACF81-BFAD-4F0A-BCEF-3B86CDA29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5EB4C-3FCC-49DA-BE82-5EDF61ECE2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B09D1-84BD-411A-BFF2-7E43490FDB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6766C-4EBE-48E5-A80D-1124A41EE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4AD71A-9A58-4EB8-A329-22DF06C63A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6C5EB5-4C6F-4ADF-ACB7-B1C2748C4C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929E99-168E-4714-86A9-C6DE3503D3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B55E3B-5038-463C-94B8-041C3C6B03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B0E2F7-107D-46DB-B5AE-E070F4157D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363473-AC8A-41E9-9E2B-695ED304E0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8726DA-D75B-47F3-BD09-77B4F2CC10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D2F4F2-3F2E-4D6B-BBE8-EA5D916BFD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B41EA5-D0D1-4FFC-B2BE-6F736F1D59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2FF28-0D75-4083-A402-D31670024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D8F4B-5226-4E4D-B000-D480705D2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9F0886-746D-44EC-92FE-252D5CDA6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7CB30-C93D-4B45-B4AB-D93D399ED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4539DF-0E0E-455C-8BD5-7E84F3D55B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59FCF9-24E9-4E97-ADEC-6B5F6DC30C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782B69-551D-4455-A996-F9B2B74D93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A20C16-20BE-4954-8D04-A81238548C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7B6573-2239-41EF-9BDF-904516B22C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8C8ED0-7DF7-4A14-BB80-65DA69B673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40F977-1B4B-4BE3-B516-F4256426C7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1E047A-94C0-443F-A9E6-5DD10DA5A2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0F6F-BE03-4EE2-B291-52FCA0AD1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CE4B38-AF42-4AA7-8787-6F228E5271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2C041E-A13E-425B-9CB0-4F3D869A6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F06294-0680-416E-9933-FAEE543347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9B3C3-B4C7-43AB-858E-746E6689A6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458AB-4519-4D9A-A26D-CB85904B38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91AAC8-F106-4BF8-9795-E625BB8DBD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B92993-EAA2-40E1-871C-A1157384B2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6519E1E-865C-42B9-9586-452DF6FACF8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65715F3-5D68-4EE2-86DF-38DE0A64B25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6AF1011-C316-463F-A329-5B4263EF705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0CEF-D2B2-4B35-8B0E-88875B17CBD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3CFD-A1AE-46DD-8A75-42D6370496F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A67D-8C16-406E-BC56-C01BF7D5978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F6DB-504B-4598-9B93-26395EAB408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DB15-4A6A-4562-A9E1-4B3A59FBAB3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7AF5-07C4-4D24-9BA2-946B7295D5E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04D5-6CCB-4732-A916-5DED82BA867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3101-381D-4C97-87FA-B30577DE513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FC4C-6924-4794-B0A6-C9F52E35335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AF6F-228A-4D42-82EA-0F736AE0D89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0A96-EA7F-47E7-8535-A9553E475B3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B94F-844B-4042-B65B-C4A482EDA97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icroscopy-uk.org.uk/micropolitan/botany/frame4b.html"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Onion Root Mit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lophase</a:t>
            </a:r>
            <a:endParaRPr b="0" lang="en-US" sz="3300" spc="-1" strike="noStrike">
              <a:solidFill>
                <a:srgbClr val="7b9899"/>
              </a:solidFill>
              <a:latin typeface="Georgia"/>
            </a:endParaRPr>
          </a:p>
        </p:txBody>
      </p:sp>
      <p:pic>
        <p:nvPicPr>
          <p:cNvPr id="625" name="Picture 5" descr="telephase"/>
          <p:cNvPicPr/>
          <p:nvPr/>
        </p:nvPicPr>
        <p:blipFill>
          <a:blip r:embed="rId1"/>
          <a:stretch/>
        </p:blipFill>
        <p:spPr>
          <a:xfrm>
            <a:off x="2895480" y="1295280"/>
            <a:ext cx="3373560" cy="518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4"/>
          <p:cNvSpPr/>
          <p:nvPr/>
        </p:nvSpPr>
        <p:spPr>
          <a:xfrm>
            <a:off x="533520" y="364680"/>
            <a:ext cx="4419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Table 1 – Totals for Cell Cycle</a:t>
            </a:r>
            <a:endParaRPr b="0" lang="en-US" sz="1800" spc="-1" strike="noStrike">
              <a:solidFill>
                <a:srgbClr val="000000"/>
              </a:solidFill>
              <a:latin typeface="Arial"/>
            </a:endParaRPr>
          </a:p>
        </p:txBody>
      </p:sp>
      <p:graphicFrame>
        <p:nvGraphicFramePr>
          <p:cNvPr id="627" name=""/>
          <p:cNvGraphicFramePr/>
          <p:nvPr/>
        </p:nvGraphicFramePr>
        <p:xfrm>
          <a:off x="304920" y="1295280"/>
          <a:ext cx="8610480" cy="5334120"/>
        </p:xfrm>
        <a:graphic>
          <a:graphicData uri="http://schemas.openxmlformats.org/drawingml/2006/table">
            <a:tbl>
              <a:tblPr/>
              <a:tblGrid>
                <a:gridCol w="1230120"/>
                <a:gridCol w="1230480"/>
                <a:gridCol w="1228680"/>
                <a:gridCol w="1228680"/>
                <a:gridCol w="1230480"/>
                <a:gridCol w="1230120"/>
                <a:gridCol w="1231920"/>
              </a:tblGrid>
              <a:tr h="5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Inter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Pr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Met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An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el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o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Percen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8" name="Rectangle 186"/>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Ink 1" descr=""/>
          <p:cNvPicPr/>
          <p:nvPr/>
        </p:nvPicPr>
        <p:blipFill>
          <a:blip r:embed="rId1"/>
          <a:stretch/>
        </p:blipFill>
        <p:spPr>
          <a:xfrm>
            <a:off x="1704960" y="4794120"/>
            <a:ext cx="6913440" cy="149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plants, the roots grow as they search for water and nutrients. These regions of growth are good for studying the cell cycle because at any given time, you can find cells that are undergoing mitosis. (Interphase is NOT considered a phase of mitosis, however it is part of the cell cyc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prepared microscope slides of thin slices of onion root tips. These tips are the part of the root that is constantly growing in order to find nutrients and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ypothesi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25 onion root cells. Your hypothesis should be a statement as to what </a:t>
            </a:r>
            <a:r>
              <a:rPr b="1" lang="en-US" sz="2700" spc="-1" strike="noStrike">
                <a:solidFill>
                  <a:srgbClr val="000000"/>
                </a:solidFill>
                <a:latin typeface="Georgia"/>
              </a:rPr>
              <a:t>percentage </a:t>
            </a:r>
            <a:r>
              <a:rPr b="0" lang="en-US" sz="2700" spc="-1" strike="noStrike">
                <a:solidFill>
                  <a:srgbClr val="000000"/>
                </a:solidFill>
                <a:latin typeface="Georgia"/>
              </a:rPr>
              <a:t>of these constantly splitting cells will be in interphase, prophase, metaphase, anaphase and telopha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Material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rosco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pared slides of onion root tip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ta shee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ed Penci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ere To Look</a:t>
            </a:r>
            <a:endParaRPr b="0" lang="en-US" sz="3300" spc="-1" strike="noStrike">
              <a:solidFill>
                <a:srgbClr val="7b9899"/>
              </a:solidFill>
              <a:latin typeface="Georgia"/>
            </a:endParaRPr>
          </a:p>
        </p:txBody>
      </p:sp>
      <p:pic>
        <p:nvPicPr>
          <p:cNvPr id="617" name="Picture 5" descr="onion_root_mitosis">
            <a:hlinkClick r:id="rId1"/>
          </p:cNvPr>
          <p:cNvPicPr/>
          <p:nvPr/>
        </p:nvPicPr>
        <p:blipFill>
          <a:blip r:embed="rId2"/>
          <a:stretch/>
        </p:blipFill>
        <p:spPr>
          <a:xfrm>
            <a:off x="2438280" y="1295280"/>
            <a:ext cx="4364280" cy="51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phase</a:t>
            </a:r>
            <a:endParaRPr b="0" lang="en-US" sz="3300" spc="-1" strike="noStrike">
              <a:solidFill>
                <a:srgbClr val="7b9899"/>
              </a:solidFill>
              <a:latin typeface="Georgia"/>
            </a:endParaRPr>
          </a:p>
        </p:txBody>
      </p:sp>
      <p:pic>
        <p:nvPicPr>
          <p:cNvPr id="619" name="Picture 5" descr="prophase"/>
          <p:cNvPicPr/>
          <p:nvPr/>
        </p:nvPicPr>
        <p:blipFill>
          <a:blip r:embed="rId1"/>
          <a:stretch/>
        </p:blipFill>
        <p:spPr>
          <a:xfrm>
            <a:off x="2743200" y="1600200"/>
            <a:ext cx="322416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aphase</a:t>
            </a:r>
            <a:endParaRPr b="0" lang="en-US" sz="3300" spc="-1" strike="noStrike">
              <a:solidFill>
                <a:srgbClr val="7b9899"/>
              </a:solidFill>
              <a:latin typeface="Georgia"/>
            </a:endParaRPr>
          </a:p>
        </p:txBody>
      </p:sp>
      <p:pic>
        <p:nvPicPr>
          <p:cNvPr id="621" name="Picture 5" descr="met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phase</a:t>
            </a:r>
            <a:endParaRPr b="0" lang="en-US" sz="3300" spc="-1" strike="noStrike">
              <a:solidFill>
                <a:srgbClr val="7b9899"/>
              </a:solidFill>
              <a:latin typeface="Georgia"/>
            </a:endParaRPr>
          </a:p>
        </p:txBody>
      </p:sp>
      <p:pic>
        <p:nvPicPr>
          <p:cNvPr id="623" name="Picture 5" descr="an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2:45:27Z</dcterms:created>
  <dc:creator>Mike Owdij</dc:creator>
  <dc:description/>
  <dc:language>en-US</dc:language>
  <cp:lastModifiedBy>Owdij, Michael</cp:lastModifiedBy>
  <dcterms:modified xsi:type="dcterms:W3CDTF">2014-11-17T18:15:39Z</dcterms:modified>
  <cp:revision>7</cp:revision>
  <dc:subject/>
  <dc:title>Onion Root Mitosis</dc:title>
</cp:coreProperties>
</file>