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8C9ED-849F-4B39-8877-C99EF07EF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E4572-8645-43F8-9895-66F2E0834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76D91B4-541B-4657-B371-BE2EDB8413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2B5DEC9-4DD3-4C3F-9E67-4FFBF9B46F6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5CD0810-1F5A-464D-8C06-A57C08A784C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386CC4B-E73C-4A20-9B99-6399AA0D3C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E3174CF-2F8E-44E8-9B8F-BBE5FDCA9D5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55E5BAC-7E78-424B-ABB3-9BF7C7ECEE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A47974C-8F6E-462E-ADF8-AF3E3A1114E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6C867B5-60DA-4A68-AD9D-8A0A01576DF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1CA8722-CF2B-45EE-9D1F-E2F11F3CABA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953BC9E-348A-4AAE-A183-3522EED44D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34B25-2A95-4D04-932E-46FF1ED92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42EC1E2-3BA3-44EA-93FD-18266F43B5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479ED5D-5CD3-4A9F-A388-0911013BA8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234955B-DF36-49BE-8AF0-B1005B0A71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6C71BF2-9C39-4219-ACD0-2D3A78D8F8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8677AB3-3B5C-4A39-A13F-46BFD85D22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6E019C2-EA6C-4CC8-9C63-5E1B3E7281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DC8B89A-E6F6-43CA-9821-D51070655A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0C940EC-EF8D-4B22-9881-25B6375D04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97AB5F5-F179-4B38-8DD8-504B865074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5397607-A26B-4942-B182-BBAE49126C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F0F1E-886F-4871-89FE-9F1BCA72B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3CDB2E0-5A4B-433E-8E15-C2B2F5BF5B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94ED9E-8D31-4FA4-AE7A-9AFF886738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053663-9503-43FE-B043-CB8DB6612F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B68126-220F-4205-BBF2-83AD5FD93A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52AE3C-3685-4FEE-9D62-4D7F387466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B8D154-409B-4D8C-9E07-9BC76F9BA8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C291BD-3950-4A39-BCB6-D9DAFDA5A4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889F40-5324-4392-A904-8EB4EEFFC5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4F0AA3-C8B3-489D-B244-B4BAEFA053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30AC03-330B-4148-883D-BF97FDD86F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B76BF-A100-43FD-90AE-94E520CEB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423F23-D24E-4E1A-9CA1-6E178BBB5D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EED9B6-1279-427A-B39D-A42C6863F5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BE2033-016E-47D1-B394-50F31FC5C6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08D17B7-2E90-4D4F-BD0B-9322C3470C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A80B717-AFD6-4DEB-AA97-293BCE8BC9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AD7D22A-79B9-4012-B69A-812D45519B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FE57906-509F-4111-85EF-74ABA6EE7A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0E00127-FA29-4821-A149-006755F1AC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534855C-5B67-4611-BB16-A8DEC7EA6E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49C9D5B-ECCE-4423-9DFB-B68BF2DC1D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DAAC8-A7F2-4991-8259-BDD69C2AA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443F5B-0F89-4973-9F63-786F168E29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6D1536A-B613-4EE7-899E-2287E0C732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95F2194-E775-4381-9BAD-1162E9C1EE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524E5F8-938E-44B3-A06B-B000F64EE6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CAE45FD-F08F-4419-86CC-D3FC22F2CC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C977F-EABC-41AE-8CC9-FF5581F74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73DC8-B0B0-4FC4-ABFD-052D8FD32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1F6C9-2531-4D23-97AD-2047EF4DF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8A779-0695-4102-BF6D-667A5110A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C9AC6-F111-4D56-B6E0-263933523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36B1F-9D49-4F1F-8D38-4D49DB4C1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0D41C-2326-4424-B3B4-5E515ED9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EB5A8-9BEF-4A36-9178-92BDA6FB5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4E508-7082-46F0-9730-FBFAC2F6E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7E0FF-1B44-4324-BF17-4A3B28978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A483C-73EB-4DE1-8522-887EA92D1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F2BC8D-4568-4F4C-9827-D90F217B0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8D02F-6387-439C-93A3-6BA4A5FFE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A13739-1864-4015-A00D-1F7E4A530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62D9F-DF66-4101-82FA-71A5547F3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62F0A-930B-4AD2-B787-D74CA44CF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DE0B8-D558-48F6-ABC9-06CEFC8EE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1DD5A-D575-421D-B53A-6DBF3859A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743D7-67D4-48BB-A9FD-9717E3D83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63327-BD13-4D2D-8AC8-428F51D33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5E248-B7CD-48AB-93F0-E89BC372C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5A220E-B6AE-4CF5-B6A1-8083F7640C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0F5A46-D98D-4D8D-ACA7-88C123F054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C756CB-15D1-4C8B-B771-6702770313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BCCFEA5-3FBD-4163-9E9A-FB71A242FC6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91A0B30-5505-4402-9431-DABD526D69D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E9283B3-B1B6-4DF9-8A7A-CEF3FA2A598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BDBC6-C485-4AB7-9481-88AEAEAC4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0142646-7802-418F-A10E-98CEF42567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E922179-3848-4A24-BCDA-B78A72B83A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233A093-6F35-4529-BDF5-869F451E7A0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147E15B-87F4-43F9-9192-FABB0D66C7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03D628-2F9E-4067-BB07-7E1237BA382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56466CD-A4EB-4181-B316-12E2110A14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FBFEEB7-D754-4D3B-BB72-60E7A75C1D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A92D0E7-78AC-489B-9C55-06B4D74E0AA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1C2034E-06FE-4DE8-953C-10251BA0AF6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BCE0FC-5456-4660-9C16-9A533C62A8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9855B-0CF0-42DC-8D4F-77FC72EE2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945F8-822D-4025-9ED7-52BCFF1CA1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0DA1B-65B0-4D48-A726-0F820ABCB0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BBCFD2-1748-4017-B8AE-26AB2FE8D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35187E-79C7-40EE-A56E-A105245FA7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786EED-1233-4E81-A00D-A5979C758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83CA1-211B-44DC-8C55-291B8ACD8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0B9A2C-8D9E-4137-A6D6-FABBE2709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C8F86-FB2A-4053-9B5E-59E96D13C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F3C16-7215-4DE0-8387-4A1483B49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99A482-EA1E-4BCB-8913-8C3E15B98F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DD83C-6B44-41A7-B74D-94E6B2864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FE0D20-41CB-44D7-B59D-85C7FE2615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4D67FA-0367-4E53-A715-FE7BEB7CDD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D40FB-4F78-4305-9688-0B09A550D0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FEF12F-E804-4F74-A761-5F949CE36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88FDE-BF6B-4F17-9605-7C279BA1FE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AC0F6-CD53-41B2-912B-FA00B357B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506DBF-D6D9-490B-9EAA-A156789052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AB2EC-025F-47DC-B8C2-63DBC61A5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92609-74B1-4EC1-AB94-4B16E197B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C71B6-1516-4DCC-9B4D-7C1102F06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A3DBF-6A89-4CB1-A752-2AF1B554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E01F8A-5F48-492F-9CF7-669A3913C6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9AA7DB-7B58-43E8-87B6-50C2FD31D2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FE39AD-BA84-4537-9C2D-E3EFCD8CAC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D83F19-158A-40B8-B895-938E588703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121643-6114-40DA-90FB-627D822C38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4F674C-56BD-4D14-9888-861C534F30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2DD537-3C69-4A00-AD5E-946D9C9A5D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DF77C5-6AC2-45D5-A6CC-A5AB58C1C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4C4B9E-1ADB-4E6D-8E78-BBEC7D7BF4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D91E1-82A8-4DDC-B4CB-165497E05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DE3E-883B-4F52-8C65-D2613FFB8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8C163-F31E-4749-A0A0-9F75A5AA5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9FA87-FCDE-4FF7-8512-A6184C2DC8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FD52F2-B514-43DF-B03C-1DD39320E4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1B7B35-B8F1-419D-B312-967876C9FA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8D7FAA-37D3-452A-8037-0ABFC4A36C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37D413-A11D-488E-AF93-CB35C57032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07CC0-B763-4503-B34B-CBE9E1EA6A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17DFD4-30D8-4250-949C-07C021179F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7D3539-754B-48D8-A321-B16BE8726D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15B0C-F70E-4F11-8FE3-BB2ED0F142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0129-4EED-4286-A26A-807F577B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61E033-5D94-4CF6-A686-2945D8C19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7F2C34-20AB-4E06-8B53-C35C167B04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650159-802A-4F23-8D85-C6B96B9FF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2B0615-A88A-4C4D-A562-D00F32DDD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035C43-9F83-49F4-8D60-3F55535B6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F9635E-628C-41F0-B146-EEDA3057B2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9A4444-E127-4C6B-AB92-E66DB4AF08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945BFD9-852A-4EE5-BECC-352B491A72F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8D913DC-F8DA-4B82-B7BC-01E858E0B5A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6E2F0F2-720C-4BCB-AA71-6A0B66962A9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7D0D-AA4E-471A-9007-9F8DE09DF83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2A88-33AF-471F-959F-11B68180FB5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8EE0-FE39-4702-A2F7-E75DCBD7980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2700-6B56-4ADD-ADCC-61DA543980F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3458-4224-4967-9968-AFAD76534D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0563-78EC-482C-B22E-8F2ECCBDA74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2863-0EBD-4B7C-A2BC-674781702FB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65AE-2911-44AE-A3BE-39A90DF3AF7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AC42-F2F1-41FC-9F11-B0B7EA73886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D1CD-E8BE-4DCA-8A1A-6B282FDD548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96FC-B035-4320-8E56-095C4606ABA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235C-12E9-4471-8823-E72CA1BFDB1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5"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27"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8"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Ink 1" descr=""/>
          <p:cNvPicPr/>
          <p:nvPr/>
        </p:nvPicPr>
        <p:blipFill>
          <a:blip r:embed="rId1"/>
          <a:stretch/>
        </p:blipFill>
        <p:spPr>
          <a:xfrm>
            <a:off x="1704960" y="4794120"/>
            <a:ext cx="6913440" cy="14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19"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1"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3"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4-11-17T18:15:39Z</dcterms:modified>
  <cp:revision>7</cp:revision>
  <dc:subject/>
  <dc:title>Onion Root Mitosis</dc:title>
</cp:coreProperties>
</file>