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E5FED-F0C2-47E6-B00E-5E66FD765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F5AA1-1134-4D9B-84E6-DDED8A855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C97B154-177F-4A42-8197-F659198077C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325A6C0-D5FC-4F83-A8BF-48745C40B8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778F0F5-868D-49E9-A83D-D387E1D4AF2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573607-754F-49C8-9F0F-95AC23C74FA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A44DEA1-1297-4F23-B360-9A62127287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0FE2141-2251-4DBD-9B91-2FE7D5DACB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4CEF5D-FDCE-456A-9F35-6A9E923FD1A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35EEF1C-F558-45F2-B205-C3DCAE6BFDC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6AA9087-195D-4830-ADC7-CD501E4480D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CA758DE-CA63-430C-9293-788173C013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9BD7D-842A-4634-93AE-5CE9D2829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65BAFCB-EE6F-4176-99D8-EAED4D03A9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652AE72-053B-4AC6-A65D-6F19C24575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0C46A2E-B191-40EF-ADDD-20B1BB38CC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F9491DB-0D53-4016-A8C2-7A14491414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7425B97-8A27-4791-97DB-B5FB93EFEA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6C48BB2-10AE-4E4A-A075-B696F68016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A22BC3-6E12-436A-BE70-DD49AA55BB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861C813-E0AC-460A-911D-FC34E3274C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A7E4AE8-2490-430D-B82B-8029551025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83D6A6D-C19E-4131-BF87-EC70D645AE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870AC-B248-48AC-B5C3-4C06E8D1D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186F0D3-6AD2-436F-8162-0B2E790C0C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4D7ED7-D27F-49FD-819F-851C85D094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10DE1E-89D6-49CE-81C2-9B92AE2423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433218-819B-46C4-A5AB-B5920B001A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D7E4BF-CBE5-4A91-8AA5-1B6C392A7C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DCADD3-467F-421F-827E-A02054DF7C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B55567-2C6E-411F-85DC-CACD3A949D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325A0D-A091-4F39-AC8A-3EF0BA5183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B71FD8-E9A3-4DE2-80A3-F154ABE593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03B4AC-D803-4474-B6A2-DB74F2676F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DE9A2-76A8-4538-9A62-28BB82641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6A57E7-C4F1-4A5E-8A89-CCA72306C8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A44ACF-85C1-4528-83BC-01BBD57731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F41E43-653B-4158-8C78-8851B64704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F7EF1FD-8DE5-450F-8B79-BEBE2B48D2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E18335F-EFE9-4DD1-B476-DF837F5BB9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56F181E-62C5-4F46-AC3D-D6C1B5BF39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6C41A44-D11F-44AB-B2B8-35E28A2D0A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BB838AF-CA45-4836-B670-C6664A6EFB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227AE79-0FF5-42AF-AE6C-2B70D43FF7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9E33B0B-78A2-4469-9402-4ACC752945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CE7C1-875F-434D-9F77-2BFCEC503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2CE485E-8069-46BA-A27F-672FA9C808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D841230-7993-4A09-8D6C-814E4A461E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EB2EB30-342E-4E96-BD09-0231758B14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74A3C3B-2CBA-4823-936D-66E706DC50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97789CA-E385-4E72-8C7B-7D4EA47C07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4B963-7B18-4B59-BBF3-0CFF6C734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0092D-3ED4-4BFA-A219-692AA5F52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B7980-215B-4B3B-A95D-09E917A3E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83226-8114-4B1D-8812-B2FCFF3DA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D3DBE-3496-44F0-98BA-D047B68E2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E2D84-8509-44BB-A170-69CC0A85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150CA-976B-4EB3-B27C-D30C24B85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C31A8-5963-423A-8BBB-23722A660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7646B-AC15-4BB9-AAA8-E00F981B2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1E029-07C9-4A20-AAD5-7A8659DB8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B5FBA-241E-4616-B45E-E1C013661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EB0EE4-A98D-459B-8B13-C08D36A72F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4F9A8-B4F6-4CB9-B309-1442E04F8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BC1CC-0E09-4270-B115-FA8895201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21859-9178-47FF-A8B6-D6958D924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5FE17-0A90-4878-9897-B1FCECD0C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4B916-0607-47B4-92AB-189E4AD5A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682FA-8B7D-490A-92E9-62D872C3C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5A90A-1557-459A-B89C-E5BA0D20F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C02F3-60A2-4B2C-8CF1-59EA21A34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0279E-C52D-4D6E-A3CA-EA9092BF0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371B3-E8F8-4CEE-A827-9AE702A35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A9C5D6-FBDA-4AA8-8269-4DEC0B137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42B84C-0114-4C78-ABD9-6A94EF9356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9589001-684E-4E26-9842-167CA3FF3F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C3B8EE8-4664-490E-879C-559CA5BD89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8D3E7B9-2045-482A-82D7-CC38443179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AA0CD-4031-4923-8BBC-C92BA2C09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DD63959-2017-458D-90C5-AAE7B92A9A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41C5F3B-C54A-48F6-85FA-BD2ABAF0E2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1F1D10B-702A-43F7-9183-625C445E52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9E835D-4C12-4A9F-821D-6C4CB7C734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51FF07-6D1A-4C93-8B3A-DF7E42048D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47E3C5F-9081-408E-9E02-293A2F8484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A8747BC-56CD-474E-A3CF-E8A1D84BC9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AEF5F1D-A077-49D3-9472-D259AE2C7C2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3A2E565-33FD-4837-B34F-47C15C7DB4F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93878D-A1C6-4499-83F1-8142BFAB7F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5E8F5-1CD1-4415-97ED-9141FD77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4C285-D3D1-44F0-90BE-96171F1E8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59C349-ACC7-45F3-8161-F9E2DC4663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65751-39EE-4474-B984-08426EA18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C836F-AB58-4AF0-8645-D34175208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79861-3B12-4D94-A67F-426A42E44B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98649-7A92-470D-B2D7-E0F6183AB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C000E-B72F-44C1-A91F-8CC6F70A0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453DE-69C2-4CE3-8107-84E0195DC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FA7B0A-8159-48D0-A0AE-697EAEB85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9CE52B-8EA0-44E6-A9FB-8CD558EBB3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FE49E-3C4E-4169-BE88-93CFA368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919ADD-CE16-4809-B083-4002CA46B5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2529D1-06C0-42A8-B2D7-11F664C815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27DA0-AAA2-4FDC-B1F7-B5AE1FB6F1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FFCA77-1BF1-4D5D-AB39-34F74FE083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884D4C-C69E-4E7B-ABFE-C9C45421C1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413590-FC0A-43BE-B464-268C917C7B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0A9FA-8418-4C67-8882-4BE3C41B0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29986-60CB-49EE-A50D-6CC98AC63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903D40-0848-4A14-9AAE-69EC673B3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F30F1-3F50-40B1-9FB2-3A4677939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15AC6-6442-40B9-B585-11A461C3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42D2F6-5215-4F07-B078-690CEA71A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0C722D-BBAC-4A6C-BBC2-36A2345D5C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57AF67-C6D5-4861-AC3B-AF9BE562DB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7B1AF3-AB1B-4AEA-9966-C0BB7429DD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911B2B-C0E8-4C2D-8BAA-0114E4F9E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DCD09F-3A05-4A50-9591-FEEC1CCF4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5957D9-BECE-4229-A5A4-19D9840DC7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DC2A5-D0DF-47A1-96A2-EC5E908337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E1CBCE-748A-47B9-9718-8285D0B2C7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31645-30EA-4455-A2A4-CF797B968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45B71-EF96-4F2F-B45D-7219271D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0F6FE-3ED3-4E33-85DC-6AE3BA7ABF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31872F-AE81-4D1D-8EB5-A4931F9557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E4FF72-8AB1-4494-8A78-E9BE214FB6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FB402C-DD18-4619-87E2-EA2FD48708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AB436C-9ED7-4E0F-ACAB-12FC10DE9D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4F3012-F653-4E61-811B-36FFF7EBB1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02EF8F-DF95-45F9-9A40-D7B35581DD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823B5-FE4F-4702-B635-0CE6ACAAD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7D2E44-4939-4D7C-8E48-D6C72955DC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7CEB52-CF7C-4434-8706-B7E331C05D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F0C9E-92FF-4235-B3DD-5B0AB5A4D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61EE2E-B41B-485E-970E-931BF36B7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D3C5D-4F8E-4D42-BEA5-E633E8452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66AF6-AC18-4689-9A17-C86CA673CF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9B2322-3EEA-4A61-9E6F-592FD2C50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23CC19-C9E9-4E8A-B03B-9D2B22B369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CDE2DA-24C8-43E4-B4C7-545CDD495B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F169A3-3725-4187-93CF-827440981B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3DD4356-103E-431F-B13B-E5A9D302026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BA7550F-1C98-4DC9-BED5-B5583430E8B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3871B5A-68AB-47DA-93DC-9D765012174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C815-FA37-4514-A9A5-210EA8A95E1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A6EC-F2F1-49A2-95D5-6370ED3F23C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493D-421A-4B2F-9F07-9A27A98DE99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3C4F-F5C1-4BD9-A775-EEAA07D104A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818C-D557-4AAC-BAEA-B98162CB0C8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63C5-78F0-44CD-B74A-47FC2FAB2F7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AAA0-2C16-4F28-AA8F-A09E8CE8BB5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38A2-E8C7-4596-8894-F5EB6458B8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E36B-4815-4E71-9E20-8C3F29FCC2A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F86D-4A5E-475B-84C6-ABAB67A0C91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5D13-19BE-4F9A-864D-6F2DCEDBBC0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7AAF-F8BB-4B7B-B401-67464DA0865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5"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27"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8"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Ink 1" descr=""/>
          <p:cNvPicPr/>
          <p:nvPr/>
        </p:nvPicPr>
        <p:blipFill>
          <a:blip r:embed="rId1"/>
          <a:stretch/>
        </p:blipFill>
        <p:spPr>
          <a:xfrm>
            <a:off x="1704960" y="4794120"/>
            <a:ext cx="6913440" cy="14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19"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1"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3"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4-11-17T18:15:39Z</dcterms:modified>
  <cp:revision>7</cp:revision>
  <dc:subject/>
  <dc:title>Onion Root Mitosis</dc:title>
</cp:coreProperties>
</file>